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8959850" cy="6721475"/>
  <p:notesSz cx="6948488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761F-671D-4237-8F38-3FAAF566F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ED9A8-2E55-4DB2-A560-1D6D67D36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7AB44-4847-4CF6-9963-8C52A86D7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4526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9070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36176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809D8-10BD-4440-804E-B755DA55D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701352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F93F-9503-4FC4-8017-B125C138FD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526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9070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36176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FDCC-A010-4B91-A61E-FBF18A6C51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F291-E04A-4C4D-8A93-5AADEABBE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FD76F-CEA2-42D0-95AB-FBB0A09F6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701352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85466-94F4-4E77-B1BD-0426CE86C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36180-F938-4B6D-BD07-665D96D9D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A42B5-8459-41F6-A34C-005FAE50F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6D803-822B-48A6-BE77-F3160ACF5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" name="McK 1. On-page tracker" hidden="1"/>
          <p:cNvSpPr/>
          <p:nvPr/>
        </p:nvSpPr>
        <p:spPr>
          <a:xfrm>
            <a:off x="119520" y="27000"/>
            <a:ext cx="84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TRAC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McK 3. Unit of measure" hidden="1"/>
          <p:cNvSpPr/>
          <p:nvPr/>
        </p:nvSpPr>
        <p:spPr>
          <a:xfrm>
            <a:off x="119160" y="531720"/>
            <a:ext cx="365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Unit of mea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McK Slide Elements"/>
          <p:cNvGrpSpPr/>
          <p:nvPr/>
        </p:nvGrpSpPr>
        <p:grpSpPr>
          <a:xfrm>
            <a:off x="119160" y="6080040"/>
            <a:ext cx="8548560" cy="508320"/>
            <a:chOff x="119160" y="6080040"/>
            <a:chExt cx="8548560" cy="508320"/>
          </a:xfrm>
        </p:grpSpPr>
        <p:sp>
          <p:nvSpPr>
            <p:cNvPr id="4" name="McK 4. Footnote" hidden="1"/>
            <p:cNvSpPr/>
            <p:nvPr/>
          </p:nvSpPr>
          <p:spPr>
            <a:xfrm>
              <a:off x="119160" y="6080040"/>
              <a:ext cx="854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4760" indent="-104760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Footno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McK 5. Source" hidden="1"/>
            <p:cNvSpPr/>
            <p:nvPr/>
          </p:nvSpPr>
          <p:spPr>
            <a:xfrm>
              <a:off x="119160" y="6435720"/>
              <a:ext cx="6862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609480" indent="-609480">
                <a:tabLst>
                  <a:tab algn="l" pos="0"/>
                  <a:tab algn="l" pos="61272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: Sou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ACET"/>
          <p:cNvGrpSpPr/>
          <p:nvPr/>
        </p:nvGrpSpPr>
        <p:grpSpPr>
          <a:xfrm>
            <a:off x="1452600" y="1129680"/>
            <a:ext cx="4264200" cy="505800"/>
            <a:chOff x="1452600" y="1129680"/>
            <a:chExt cx="4264200" cy="505800"/>
          </a:xfrm>
        </p:grpSpPr>
        <p:cxnSp>
          <p:nvCxnSpPr>
            <p:cNvPr id="7" name=""/>
            <p:cNvCxnSpPr/>
            <p:nvPr/>
          </p:nvCxnSpPr>
          <p:spPr>
            <a:xfrm>
              <a:off x="1452600" y="1634760"/>
              <a:ext cx="4264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" name="" hidden="1"/>
            <p:cNvSpPr/>
            <p:nvPr/>
          </p:nvSpPr>
          <p:spPr>
            <a:xfrm>
              <a:off x="1452600" y="1129680"/>
              <a:ext cx="4263840" cy="505440"/>
            </a:xfrm>
            <a:prstGeom prst="leftRightArrow">
              <a:avLst>
                <a:gd name="adj1" fmla="val 100000"/>
                <a:gd name="adj2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1836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2"/>
          <p:cNvSpPr>
            <a:spLocks noGrp="1"/>
          </p:cNvSpPr>
          <p:nvPr>
            <p:ph type="sldNum" idx="1"/>
          </p:nvPr>
        </p:nvSpPr>
        <p:spPr>
          <a:xfrm>
            <a:off x="8545680" y="6435360"/>
            <a:ext cx="195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92FF-CE5C-4B80-811F-624997DC3A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Working Draft" hidden="1"/>
          <p:cNvSpPr/>
          <p:nvPr/>
        </p:nvSpPr>
        <p:spPr>
          <a:xfrm rot="5400000">
            <a:off x="8028720" y="2772360"/>
            <a:ext cx="1725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orking Draft - Last Modified 6/1/2012 4:17:57 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inted" hidden="1"/>
          <p:cNvSpPr/>
          <p:nvPr/>
        </p:nvSpPr>
        <p:spPr>
          <a:xfrm rot="5400000">
            <a:off x="8382240" y="3852000"/>
            <a:ext cx="101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inted 5/31/2012 2:00:21 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7160" indent="-136440">
              <a:buClr>
                <a:srgbClr val="dd1e32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24360" indent="-185760">
              <a:buClr>
                <a:srgbClr val="dd1e32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35960" indent="-110520">
              <a:buClr>
                <a:srgbClr val="dd1e32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9560" indent="-92520">
              <a:buClr>
                <a:srgbClr val="dd1e32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doc id"/>
          <p:cNvSpPr/>
          <p:nvPr/>
        </p:nvSpPr>
        <p:spPr>
          <a:xfrm>
            <a:off x="8082000" y="36360"/>
            <a:ext cx="65736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rcRect l="6775" t="0" r="11232" b="25902"/>
          <a:stretch/>
        </p:blipFill>
        <p:spPr>
          <a:xfrm>
            <a:off x="7408800" y="223920"/>
            <a:ext cx="132408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39880" y="2133360"/>
            <a:ext cx="493560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dd1e3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52" name="Working Draft Text" hidden="1"/>
          <p:cNvSpPr/>
          <p:nvPr/>
        </p:nvSpPr>
        <p:spPr>
          <a:xfrm>
            <a:off x="2639880" y="343080"/>
            <a:ext cx="98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ORKING D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king Draft" hidden="1"/>
          <p:cNvSpPr/>
          <p:nvPr/>
        </p:nvSpPr>
        <p:spPr>
          <a:xfrm>
            <a:off x="2634120" y="498600"/>
            <a:ext cx="297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st Modified 6/1/2012 4:17:57 PM Central Standard 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inted" hidden="1"/>
          <p:cNvSpPr/>
          <p:nvPr/>
        </p:nvSpPr>
        <p:spPr>
          <a:xfrm>
            <a:off x="1463400" y="655560"/>
            <a:ext cx="2715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nted 5/31/2012 2:00:21 PM Central Standard 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McK Title Elements"/>
          <p:cNvGrpSpPr/>
          <p:nvPr/>
        </p:nvGrpSpPr>
        <p:grpSpPr>
          <a:xfrm>
            <a:off x="0" y="0"/>
            <a:ext cx="8958240" cy="6723000"/>
            <a:chOff x="0" y="0"/>
            <a:chExt cx="8958240" cy="6723000"/>
          </a:xfrm>
        </p:grpSpPr>
        <p:sp>
          <p:nvSpPr>
            <p:cNvPr id="56" name="McK Document type" hidden="1"/>
            <p:cNvSpPr/>
            <p:nvPr/>
          </p:nvSpPr>
          <p:spPr>
            <a:xfrm>
              <a:off x="2639880" y="493308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ument 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McK Date" hidden="1"/>
            <p:cNvSpPr/>
            <p:nvPr/>
          </p:nvSpPr>
          <p:spPr>
            <a:xfrm>
              <a:off x="2639880" y="519912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McK Disclaimer" hidden="1"/>
            <p:cNvSpPr/>
            <p:nvPr/>
          </p:nvSpPr>
          <p:spPr>
            <a:xfrm>
              <a:off x="2639880" y="5896800"/>
              <a:ext cx="440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FIDENTIAL AND PROPRIET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y use of this material without specific permission of McKinsey &amp; Company is strictly prohibit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itleBottomPlaceholder" hidden="1"/>
            <p:cNvSpPr/>
            <p:nvPr/>
          </p:nvSpPr>
          <p:spPr>
            <a:xfrm>
              <a:off x="0" y="2238480"/>
              <a:ext cx="2193840" cy="4484520"/>
            </a:xfrm>
            <a:prstGeom prst="rect">
              <a:avLst/>
            </a:prstGeom>
            <a:solidFill>
              <a:srgbClr val="006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itleTopPlaceholder" hidden="1"/>
            <p:cNvSpPr/>
            <p:nvPr/>
          </p:nvSpPr>
          <p:spPr>
            <a:xfrm>
              <a:off x="0" y="0"/>
              <a:ext cx="2193840" cy="2238480"/>
            </a:xfrm>
            <a:prstGeom prst="rect">
              <a:avLst/>
            </a:prstGeom>
            <a:solidFill>
              <a:srgbClr val="91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 hidden="1"/>
            <p:cNvSpPr/>
            <p:nvPr/>
          </p:nvSpPr>
          <p:spPr>
            <a:xfrm>
              <a:off x="0" y="0"/>
              <a:ext cx="8958240" cy="6721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TitleBottomBarBW" descr=""/>
          <p:cNvPicPr/>
          <p:nvPr/>
        </p:nvPicPr>
        <p:blipFill>
          <a:blip r:embed="rId2"/>
          <a:stretch/>
        </p:blipFill>
        <p:spPr>
          <a:xfrm>
            <a:off x="7174080" y="6443640"/>
            <a:ext cx="1636560" cy="192240"/>
          </a:xfrm>
          <a:prstGeom prst="rect">
            <a:avLst/>
          </a:prstGeom>
          <a:ln w="0">
            <a:noFill/>
          </a:ln>
        </p:spPr>
      </p:pic>
      <p:sp>
        <p:nvSpPr>
          <p:cNvPr id="63" name="doc id"/>
          <p:cNvSpPr/>
          <p:nvPr/>
        </p:nvSpPr>
        <p:spPr>
          <a:xfrm>
            <a:off x="8442360" y="36360"/>
            <a:ext cx="2952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5843520" y="741240"/>
            <a:ext cx="2908080" cy="5891760"/>
            <a:chOff x="5843520" y="741240"/>
            <a:chExt cx="2908080" cy="5891760"/>
          </a:xfrm>
        </p:grpSpPr>
        <p:sp>
          <p:nvSpPr>
            <p:cNvPr id="102" name=""/>
            <p:cNvSpPr/>
            <p:nvPr/>
          </p:nvSpPr>
          <p:spPr>
            <a:xfrm>
              <a:off x="5843520" y="741240"/>
              <a:ext cx="2908080" cy="58917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43520" y="741240"/>
              <a:ext cx="2908080" cy="58917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rm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9160" y="9000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Delta Tentative Agreement: Pilot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17760" y="1677960"/>
            <a:ext cx="1663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2: 4% incr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3: 8.5%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4: 3%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5: 3%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17760" y="1003320"/>
            <a:ext cx="29210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osed changes to Delta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65160" y="1398600"/>
            <a:ext cx="1236600" cy="790560"/>
          </a:xfrm>
          <a:prstGeom prst="rect">
            <a:avLst/>
          </a:prstGeom>
          <a:solidFill>
            <a:srgbClr val="61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2000" tIns="72000" bIns="7200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pen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65160" y="2629080"/>
            <a:ext cx="1236600" cy="790560"/>
          </a:xfrm>
          <a:prstGeom prst="rect">
            <a:avLst/>
          </a:prstGeom>
          <a:solidFill>
            <a:srgbClr val="61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2000" tIns="72000" bIns="7200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ork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65160" y="3963960"/>
            <a:ext cx="1236600" cy="790560"/>
          </a:xfrm>
          <a:prstGeom prst="rect">
            <a:avLst/>
          </a:prstGeom>
          <a:solidFill>
            <a:srgbClr val="61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2000" tIns="72000" bIns="7200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gional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65160" y="5122800"/>
            <a:ext cx="1236600" cy="790560"/>
          </a:xfrm>
          <a:prstGeom prst="rect">
            <a:avLst/>
          </a:prstGeom>
          <a:solidFill>
            <a:srgbClr val="61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2000" tIns="72000" bIns="7200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452600" y="1254240"/>
            <a:ext cx="4189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07040" y="1019160"/>
            <a:ext cx="23637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arison to WN 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22800" y="1255680"/>
            <a:ext cx="245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1640" y="2514600"/>
            <a:ext cx="6919920" cy="1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01640" y="3827520"/>
            <a:ext cx="6919920" cy="1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01640" y="5019840"/>
            <a:ext cx="6919920" cy="1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17760" y="2568600"/>
            <a:ext cx="3989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9000"/>
          </a:bodyPr>
          <a:p>
            <a:pPr lvl="1" marL="78840" indent="-7776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line value (ALV)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72-84 h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8840" indent="-7776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um reserve guarantee: from 70 to 72 h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8840" indent="-7776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reserve: from ALV to 80 h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8840" indent="-7776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 Pay: 75% to 100% pay 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8840" indent="-7776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estic Max/Day: 9-13 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8840" indent="-7776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l Max/Day: 15 hours max/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17760" y="3970440"/>
            <a:ext cx="3049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1000"/>
          </a:bodyPr>
          <a:p>
            <a:pPr lvl="1" marL="92520" indent="-914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 seat aircraft cap at 2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2520" indent="-914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seat aircraft cap at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2520" indent="-914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eat aircraft cap at 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2520" indent="-914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2520" indent="-9144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regional cap: 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50880" y="5070600"/>
            <a:ext cx="4037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9000"/>
          </a:bodyPr>
          <a:p>
            <a:pPr lvl="1" marL="67320" indent="-66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ain international premium: $6 to $6.5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320" indent="-66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 international premium: $4 to $4.5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320" indent="-66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ation pay: from 3 to 3.5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320" indent="-66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estic per diem: $2 to $2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320" indent="-66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per diem: $2.50 to $2.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320" indent="-66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 bank: 50 - 270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320" indent="-66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-20% profit sharing without con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15160" y="2581200"/>
            <a:ext cx="265104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lvl="1" marL="105120" indent="-10368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verage lin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5120" indent="-10368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um reserve guarantee: 87 T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5120" indent="-10368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reserve: 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5120" indent="-10368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 pay: 100% pay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5120" indent="-10368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estic Max/Day: 11-15 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5120" indent="-10368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international max/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15160" y="3970440"/>
            <a:ext cx="278604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ap on aircraft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15160" y="5070600"/>
            <a:ext cx="2662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41000"/>
          </a:bodyPr>
          <a:p>
            <a:pPr lvl="1" marL="46800" indent="-4608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Intl premi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800" indent="-4608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ation pay: Minimum 3.75 TFP to scheduled TFP before va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800" indent="-4608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estic per diem: $2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800" indent="-4608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 Bank: Max of 1600 TF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800" indent="-4608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3% matching con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800" indent="-4608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3" idx="0"/>
            <a:endCxn id="123" idx="1"/>
          </p:cNvCxnSpPr>
          <p:nvPr/>
        </p:nvCxnSpPr>
        <p:spPr>
          <a:xfrm>
            <a:off x="5158440" y="7920"/>
            <a:ext cx="360" cy="36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25" name=""/>
          <p:cNvCxnSpPr>
            <a:stCxn id="123" idx="2"/>
            <a:endCxn id="123" idx="3"/>
          </p:cNvCxnSpPr>
          <p:nvPr/>
        </p:nvCxnSpPr>
        <p:spPr>
          <a:xfrm>
            <a:off x="5158440" y="7920"/>
            <a:ext cx="360" cy="1954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1463760" y="1370160"/>
            <a:ext cx="11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08080"/>
                </a:solidFill>
                <a:uFillTx/>
                <a:latin typeface="Arial"/>
              </a:rPr>
              <a:t>%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89320" y="1359000"/>
            <a:ext cx="11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08080"/>
                </a:solidFill>
                <a:uFillTx/>
                <a:latin typeface="Arial"/>
              </a:rPr>
              <a:t>Top FO B7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32400" y="1359000"/>
            <a:ext cx="12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08080"/>
                </a:solidFill>
                <a:uFillTx/>
                <a:latin typeface="Arial"/>
              </a:rPr>
              <a:t>Top Cap B7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71760" y="1677960"/>
            <a:ext cx="16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28.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39.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43.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48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10160" y="1677960"/>
            <a:ext cx="114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88.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04.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10.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16.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26040" y="13590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08080"/>
                </a:solidFill>
                <a:uFillTx/>
                <a:latin typeface="Arial"/>
              </a:rPr>
              <a:t>Top FO B7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69120" y="1359000"/>
            <a:ext cx="12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08080"/>
                </a:solidFill>
                <a:uFillTx/>
                <a:latin typeface="Arial"/>
              </a:rPr>
              <a:t>Top Cap B7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08840" y="1677960"/>
            <a:ext cx="1663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54.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46880" y="1677960"/>
            <a:ext cx="114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20.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McK 5. Source"/>
          <p:cNvSpPr/>
          <p:nvPr/>
        </p:nvSpPr>
        <p:spPr>
          <a:xfrm>
            <a:off x="119160" y="6486480"/>
            <a:ext cx="686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otnote: Average line value is the monthly flying average per pil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1330-AD99-448D-9028-F69819E0E1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3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9520" y="1125360"/>
            <a:ext cx="8516880" cy="5194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9080">
            <a:solidFill>
              <a:srgbClr val="dd1e32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aptain Wage Scales Comparison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40" idx="0"/>
            <a:endCxn id="140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42" name=""/>
          <p:cNvCxnSpPr>
            <a:stCxn id="140" idx="2"/>
            <a:endCxn id="140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209520" y="712800"/>
            <a:ext cx="8516880" cy="393840"/>
          </a:xfrm>
          <a:prstGeom prst="rect">
            <a:avLst/>
          </a:prstGeom>
          <a:solidFill>
            <a:srgbClr val="dd1e32"/>
          </a:solidFill>
          <a:ln w="1908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McK 5. Source"/>
          <p:cNvSpPr/>
          <p:nvPr/>
        </p:nvSpPr>
        <p:spPr>
          <a:xfrm>
            <a:off x="119160" y="6486480"/>
            <a:ext cx="686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Delta Airlines Tentative Agreement;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N uses standard 1.16 TFP to Hourly conversion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25200" y="824040"/>
            <a:ext cx="1346760" cy="2095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37-700/800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7760" y="752760"/>
            <a:ext cx="7267320" cy="3837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836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ptain wage sc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$ per hour, not adjusted for inf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88880" y="1433520"/>
          <a:ext cx="8321760" cy="498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433520"/>
                    <a:ext cx="832176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717480" y="154764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7480" y="307188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7480" y="460548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7480" y="192888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7480" y="346248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7480" y="498636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7480" y="422424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7480" y="384336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7480" y="536724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7480" y="574848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7480" y="269064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7480" y="230976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2600" y="336708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2600" y="297648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2600" y="2595600"/>
            <a:ext cx="295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2600" y="1452600"/>
            <a:ext cx="295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2600" y="565308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2600" y="183348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2600" y="451008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2600" y="374796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2600" y="2214720"/>
            <a:ext cx="295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2600" y="5272200"/>
            <a:ext cx="295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2600" y="489096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2600" y="4129200"/>
            <a:ext cx="295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24680" y="426420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ta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24680" y="367524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ta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24680" y="249408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ta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24680" y="197496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ta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24680" y="154152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ta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24680" y="120348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A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527960" y="4125960"/>
            <a:ext cx="731880" cy="303120"/>
            <a:chOff x="7527960" y="4125960"/>
            <a:chExt cx="731880" cy="303120"/>
          </a:xfrm>
        </p:grpSpPr>
        <p:sp>
          <p:nvSpPr>
            <p:cNvPr id="180" name=""/>
            <p:cNvSpPr/>
            <p:nvPr/>
          </p:nvSpPr>
          <p:spPr>
            <a:xfrm>
              <a:off x="7527960" y="4125960"/>
              <a:ext cx="731880" cy="303120"/>
            </a:xfrm>
            <a:prstGeom prst="ellipse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8200" y="4138560"/>
              <a:ext cx="6710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0" bIns="0" anchor="ctr">
              <a:norm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 flipV="1">
            <a:off x="8431200" y="2835000"/>
            <a:ext cx="0" cy="858600"/>
          </a:xfrm>
          <a:prstGeom prst="line">
            <a:avLst/>
          </a:prstGeom>
          <a:ln w="50760">
            <a:solidFill>
              <a:srgbClr val="ecb9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527960" y="3103560"/>
            <a:ext cx="731880" cy="303120"/>
            <a:chOff x="7527960" y="3103560"/>
            <a:chExt cx="731880" cy="303120"/>
          </a:xfrm>
        </p:grpSpPr>
        <p:sp>
          <p:nvSpPr>
            <p:cNvPr id="184" name=""/>
            <p:cNvSpPr/>
            <p:nvPr/>
          </p:nvSpPr>
          <p:spPr>
            <a:xfrm>
              <a:off x="7527960" y="3103560"/>
              <a:ext cx="731880" cy="303120"/>
            </a:xfrm>
            <a:prstGeom prst="ellipse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58200" y="3116160"/>
              <a:ext cx="6710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0" bIns="0" anchor="ctr">
              <a:norm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.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7527960" y="2379600"/>
            <a:ext cx="731880" cy="303120"/>
            <a:chOff x="7527960" y="2379600"/>
            <a:chExt cx="731880" cy="303120"/>
          </a:xfrm>
        </p:grpSpPr>
        <p:sp>
          <p:nvSpPr>
            <p:cNvPr id="187" name=""/>
            <p:cNvSpPr/>
            <p:nvPr/>
          </p:nvSpPr>
          <p:spPr>
            <a:xfrm>
              <a:off x="7527960" y="2379600"/>
              <a:ext cx="731880" cy="303120"/>
            </a:xfrm>
            <a:prstGeom prst="ellipse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58200" y="2392200"/>
              <a:ext cx="6710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0" bIns="0" anchor="ctr">
              <a:norm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527960" y="1898640"/>
            <a:ext cx="731880" cy="303120"/>
            <a:chOff x="7527960" y="1898640"/>
            <a:chExt cx="731880" cy="303120"/>
          </a:xfrm>
        </p:grpSpPr>
        <p:sp>
          <p:nvSpPr>
            <p:cNvPr id="190" name=""/>
            <p:cNvSpPr/>
            <p:nvPr/>
          </p:nvSpPr>
          <p:spPr>
            <a:xfrm>
              <a:off x="7527960" y="1898640"/>
              <a:ext cx="731880" cy="303120"/>
            </a:xfrm>
            <a:prstGeom prst="ellipse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8200" y="1911240"/>
              <a:ext cx="6710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0" bIns="0" anchor="ctr">
              <a:norm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V="1">
            <a:off x="8431200" y="4024440"/>
            <a:ext cx="0" cy="450720"/>
          </a:xfrm>
          <a:prstGeom prst="line">
            <a:avLst/>
          </a:prstGeom>
          <a:ln w="50760">
            <a:solidFill>
              <a:srgbClr val="ecb9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431200" y="2361960"/>
            <a:ext cx="0" cy="330120"/>
          </a:xfrm>
          <a:prstGeom prst="line">
            <a:avLst/>
          </a:prstGeom>
          <a:ln w="50760">
            <a:solidFill>
              <a:srgbClr val="ecb9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8431200" y="1879200"/>
            <a:ext cx="0" cy="330120"/>
          </a:xfrm>
          <a:prstGeom prst="line">
            <a:avLst/>
          </a:prstGeom>
          <a:ln w="50760">
            <a:solidFill>
              <a:srgbClr val="ecb9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6880" y="5883120"/>
            <a:ext cx="15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ure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527960" y="1550880"/>
            <a:ext cx="731880" cy="243000"/>
            <a:chOff x="7527960" y="1550880"/>
            <a:chExt cx="731880" cy="243000"/>
          </a:xfrm>
        </p:grpSpPr>
        <p:sp>
          <p:nvSpPr>
            <p:cNvPr id="197" name=""/>
            <p:cNvSpPr/>
            <p:nvPr/>
          </p:nvSpPr>
          <p:spPr>
            <a:xfrm>
              <a:off x="7527960" y="1550880"/>
              <a:ext cx="731880" cy="243000"/>
            </a:xfrm>
            <a:prstGeom prst="ellipse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8200" y="1560960"/>
              <a:ext cx="671040" cy="2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0" bIns="0" anchor="ctr">
              <a:norm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 flipV="1">
            <a:off x="8431200" y="1561680"/>
            <a:ext cx="11160" cy="211320"/>
          </a:xfrm>
          <a:prstGeom prst="line">
            <a:avLst/>
          </a:prstGeom>
          <a:ln w="50760">
            <a:solidFill>
              <a:srgbClr val="ecb9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3B7B-066F-434D-9004-59E028FB47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20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9520" y="1125360"/>
            <a:ext cx="8516880" cy="5194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9080">
            <a:solidFill>
              <a:srgbClr val="dd1e32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First Officer Wage Scales Comparison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"/>
          <p:cNvCxnSpPr>
            <a:stCxn id="204" idx="0"/>
            <a:endCxn id="204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206" name=""/>
          <p:cNvCxnSpPr>
            <a:stCxn id="204" idx="2"/>
            <a:endCxn id="204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209520" y="712800"/>
            <a:ext cx="8516880" cy="393840"/>
          </a:xfrm>
          <a:prstGeom prst="rect">
            <a:avLst/>
          </a:prstGeom>
          <a:solidFill>
            <a:srgbClr val="dd1e32"/>
          </a:solidFill>
          <a:ln w="1908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McK 5. Source"/>
          <p:cNvSpPr/>
          <p:nvPr/>
        </p:nvSpPr>
        <p:spPr>
          <a:xfrm>
            <a:off x="119160" y="6486480"/>
            <a:ext cx="686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Delta Airlines Tentative Agreement;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N uses standard 1.16 TFP to Hourly conversion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225200" y="824040"/>
            <a:ext cx="1346760" cy="2095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37-700/800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7760" y="752760"/>
            <a:ext cx="7267320" cy="3837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836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rst Officer wage sc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$ per hour, not adjusted for inf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88880" y="1444680"/>
          <a:ext cx="8321760" cy="498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444680"/>
                    <a:ext cx="832176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717480" y="310212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7480" y="287352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7480" y="264492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7480" y="354960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7480" y="377820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17480" y="218772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7480" y="195912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17480" y="332100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7480" y="173052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7480" y="241632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7480" y="446400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17480" y="400680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17480" y="492120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7480" y="514980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7480" y="537840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17480" y="560700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17480" y="583560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7480" y="469260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17480" y="423540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2600" y="3454560"/>
            <a:ext cx="295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2600" y="300672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2600" y="254952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2600" y="209232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2600" y="163512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5740560"/>
            <a:ext cx="196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2600" y="3225960"/>
            <a:ext cx="295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2600" y="277812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2600" y="232092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82600" y="186372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2600" y="3683160"/>
            <a:ext cx="295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2600" y="3911760"/>
            <a:ext cx="295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140360"/>
            <a:ext cx="196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4368960"/>
            <a:ext cx="196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4597560"/>
            <a:ext cx="196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4826160"/>
            <a:ext cx="196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5054760"/>
            <a:ext cx="196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5283360"/>
            <a:ext cx="196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5511960"/>
            <a:ext cx="196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05520" y="267660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ta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05520" y="241776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ta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05520" y="196056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ta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05520" y="175896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ta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05520" y="152892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ta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05520" y="121608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A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291440" y="2706840"/>
            <a:ext cx="538200" cy="228600"/>
            <a:chOff x="7291440" y="2706840"/>
            <a:chExt cx="538200" cy="228600"/>
          </a:xfrm>
        </p:grpSpPr>
        <p:sp>
          <p:nvSpPr>
            <p:cNvPr id="258" name=""/>
            <p:cNvSpPr/>
            <p:nvPr/>
          </p:nvSpPr>
          <p:spPr>
            <a:xfrm>
              <a:off x="7291440" y="2706840"/>
              <a:ext cx="538200" cy="228600"/>
            </a:xfrm>
            <a:prstGeom prst="ellipse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13760" y="2716200"/>
              <a:ext cx="4935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0" bIns="0" anchor="ctr">
              <a:norm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7291440" y="2357280"/>
            <a:ext cx="538200" cy="263520"/>
            <a:chOff x="7291440" y="2357280"/>
            <a:chExt cx="538200" cy="263520"/>
          </a:xfrm>
        </p:grpSpPr>
        <p:sp>
          <p:nvSpPr>
            <p:cNvPr id="261" name=""/>
            <p:cNvSpPr/>
            <p:nvPr/>
          </p:nvSpPr>
          <p:spPr>
            <a:xfrm>
              <a:off x="7291440" y="2357280"/>
              <a:ext cx="538200" cy="263520"/>
            </a:xfrm>
            <a:prstGeom prst="ellipse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13760" y="2368080"/>
              <a:ext cx="49356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0" bIns="0" anchor="ctr">
              <a:norm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.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7291440" y="1809720"/>
            <a:ext cx="538200" cy="214200"/>
            <a:chOff x="7291440" y="1809720"/>
            <a:chExt cx="538200" cy="214200"/>
          </a:xfrm>
        </p:grpSpPr>
        <p:sp>
          <p:nvSpPr>
            <p:cNvPr id="264" name=""/>
            <p:cNvSpPr/>
            <p:nvPr/>
          </p:nvSpPr>
          <p:spPr>
            <a:xfrm>
              <a:off x="7291440" y="1809720"/>
              <a:ext cx="538200" cy="214200"/>
            </a:xfrm>
            <a:prstGeom prst="ellipse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13760" y="1818360"/>
              <a:ext cx="49356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0" bIns="0" anchor="ctr">
              <a:norm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 flipV="1">
            <a:off x="8099280" y="2709720"/>
            <a:ext cx="0" cy="200160"/>
          </a:xfrm>
          <a:prstGeom prst="line">
            <a:avLst/>
          </a:prstGeom>
          <a:ln w="50760">
            <a:solidFill>
              <a:srgbClr val="ecb9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6880" y="5883120"/>
            <a:ext cx="15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ure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8099280" y="2263320"/>
            <a:ext cx="0" cy="344520"/>
          </a:xfrm>
          <a:prstGeom prst="line">
            <a:avLst/>
          </a:prstGeom>
          <a:ln w="50760">
            <a:solidFill>
              <a:srgbClr val="ecb9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088480" y="1796760"/>
            <a:ext cx="0" cy="176040"/>
          </a:xfrm>
          <a:prstGeom prst="line">
            <a:avLst/>
          </a:prstGeom>
          <a:ln w="50760">
            <a:solidFill>
              <a:srgbClr val="ecb9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088480" y="2023920"/>
            <a:ext cx="0" cy="176400"/>
          </a:xfrm>
          <a:prstGeom prst="line">
            <a:avLst/>
          </a:prstGeom>
          <a:ln w="50760">
            <a:solidFill>
              <a:srgbClr val="ecb9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291440" y="2011320"/>
            <a:ext cx="538200" cy="214200"/>
            <a:chOff x="7291440" y="2011320"/>
            <a:chExt cx="538200" cy="214200"/>
          </a:xfrm>
        </p:grpSpPr>
        <p:sp>
          <p:nvSpPr>
            <p:cNvPr id="272" name=""/>
            <p:cNvSpPr/>
            <p:nvPr/>
          </p:nvSpPr>
          <p:spPr>
            <a:xfrm>
              <a:off x="7291440" y="2011320"/>
              <a:ext cx="538200" cy="214200"/>
            </a:xfrm>
            <a:prstGeom prst="ellipse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13760" y="2019960"/>
              <a:ext cx="49356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0" bIns="0" anchor="ctr">
              <a:norm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7291440" y="1563840"/>
            <a:ext cx="538200" cy="228600"/>
            <a:chOff x="7291440" y="1563840"/>
            <a:chExt cx="538200" cy="228600"/>
          </a:xfrm>
        </p:grpSpPr>
        <p:sp>
          <p:nvSpPr>
            <p:cNvPr id="275" name=""/>
            <p:cNvSpPr/>
            <p:nvPr/>
          </p:nvSpPr>
          <p:spPr>
            <a:xfrm>
              <a:off x="7291440" y="1563840"/>
              <a:ext cx="538200" cy="228600"/>
            </a:xfrm>
            <a:prstGeom prst="ellipse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13760" y="1573200"/>
              <a:ext cx="4935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0" bIns="0" anchor="ctr">
              <a:norm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 flipV="1">
            <a:off x="8099280" y="1566720"/>
            <a:ext cx="0" cy="200160"/>
          </a:xfrm>
          <a:prstGeom prst="line">
            <a:avLst/>
          </a:prstGeom>
          <a:ln w="50760">
            <a:solidFill>
              <a:srgbClr val="ecb9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8F54E-8BC8-4C90-9706-0C0CE65680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4:40:43Z</dcterms:created>
  <dc:creator>Virginia Casas</dc:creator>
  <dc:description/>
  <dc:language>en-US</dc:language>
  <cp:lastModifiedBy>Paul Yoo</cp:lastModifiedBy>
  <cp:lastPrinted>2012-05-31T19:00:26Z</cp:lastPrinted>
  <dcterms:modified xsi:type="dcterms:W3CDTF">2012-06-01T21:17:57Z</dcterms:modified>
  <cp:revision>283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DocID">
    <vt:lpwstr/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0</vt:bool>
  </property>
  <property fmtid="{D5CDD505-2E9C-101B-9397-08002B2CF9AE}" pid="7" name="Event">
    <vt:lpwstr/>
  </property>
  <property fmtid="{D5CDD505-2E9C-101B-9397-08002B2CF9AE}" pid="8" name="Final">
    <vt:bool>1</vt:bool>
  </property>
  <property fmtid="{D5CDD505-2E9C-101B-9397-08002B2CF9AE}" pid="9" name="McKPaperSize">
    <vt:lpwstr>A4</vt:lpwstr>
  </property>
  <property fmtid="{D5CDD505-2E9C-101B-9397-08002B2CF9AE}" pid="10" name="NotesPageLayout">
    <vt:lpwstr>Message</vt:lpwstr>
  </property>
  <property fmtid="{D5CDD505-2E9C-101B-9397-08002B2CF9AE}" pid="11" name="Title">
    <vt:lpwstr>Title</vt:lpwstr>
  </property>
  <property fmtid="{D5CDD505-2E9C-101B-9397-08002B2CF9AE}" pid="12" name="Universal Objects">
    <vt:bool>1</vt:bool>
  </property>
</Properties>
</file>