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0.png" ContentType="image/png"/>
  <Override PartName="/ppt/media/image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384120" y="685440"/>
            <a:ext cx="60897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3B99-82F6-42F7-8E4E-0F28F97D3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5800"/>
                <a:tab algn="l" pos="3459240"/>
                <a:tab algn="l" pos="3890880"/>
                <a:tab algn="l" pos="4324320"/>
                <a:tab algn="l" pos="4756320"/>
                <a:tab algn="l" pos="5189400"/>
                <a:tab algn="l" pos="5621400"/>
                <a:tab algn="l" pos="6053040"/>
                <a:tab algn="l" pos="6486480"/>
                <a:tab algn="l" pos="6918480"/>
                <a:tab algn="l" pos="7351560"/>
                <a:tab algn="l" pos="7783560"/>
                <a:tab algn="l" pos="8215200"/>
                <a:tab algn="l" pos="8648640"/>
                <a:tab algn="l" pos="9144000"/>
                <a:tab algn="l" pos="10058400"/>
              </a:tabLst>
            </a:pPr>
            <a:fld id="{16A843AA-9F68-4876-BDA6-CF05041AD88F}" type="slidenum">
              <a:rPr b="0" lang="en-US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179360" y="685800"/>
            <a:ext cx="45007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66BB-0BC9-4907-93E9-BF1956043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384120" y="685800"/>
            <a:ext cx="608976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4560"/>
            <a:ext cx="822924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4080"/>
            <a:ext cx="822924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4560"/>
            <a:ext cx="401580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4560"/>
            <a:ext cx="401580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4080"/>
            <a:ext cx="401580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4080"/>
            <a:ext cx="401580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4560"/>
            <a:ext cx="264960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4560"/>
            <a:ext cx="264960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4560"/>
            <a:ext cx="264960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4080"/>
            <a:ext cx="264960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4080"/>
            <a:ext cx="264960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4080"/>
            <a:ext cx="264960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4560"/>
            <a:ext cx="8229240" cy="298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4560"/>
            <a:ext cx="8229240" cy="298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4560"/>
            <a:ext cx="4015800" cy="298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4560"/>
            <a:ext cx="4015800" cy="298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4560"/>
            <a:ext cx="401580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4560"/>
            <a:ext cx="4015800" cy="298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4080"/>
            <a:ext cx="401580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4560"/>
            <a:ext cx="4015800" cy="298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4560"/>
            <a:ext cx="401580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4080"/>
            <a:ext cx="401580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4560"/>
            <a:ext cx="401580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4560"/>
            <a:ext cx="401580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4080"/>
            <a:ext cx="822924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heelTug_arrows_logo_watermark_wide"/>
          <p:cNvPicPr/>
          <p:nvPr/>
        </p:nvPicPr>
        <p:blipFill>
          <a:blip r:embed="rId2"/>
          <a:stretch/>
        </p:blipFill>
        <p:spPr>
          <a:xfrm>
            <a:off x="-150840" y="-88920"/>
            <a:ext cx="9447120" cy="532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1752480" cy="120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4497480" y="4862520"/>
            <a:ext cx="226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0" y="4334040"/>
            <a:ext cx="906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0 May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Isaiah Cox, +1 410 419 0082, exec@wheeltu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soutwest_logoplane"/>
          <p:cNvPicPr/>
          <p:nvPr/>
        </p:nvPicPr>
        <p:blipFill>
          <a:blip r:embed="rId1"/>
          <a:stretch/>
        </p:blipFill>
        <p:spPr>
          <a:xfrm>
            <a:off x="4219560" y="1963800"/>
            <a:ext cx="4276800" cy="1289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southwest_logotext"/>
          <p:cNvPicPr/>
          <p:nvPr/>
        </p:nvPicPr>
        <p:blipFill>
          <a:blip r:embed="rId2"/>
          <a:stretch/>
        </p:blipFill>
        <p:spPr>
          <a:xfrm>
            <a:off x="4148280" y="3384720"/>
            <a:ext cx="4538520" cy="58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_x0018_driving_aerospace2 2.pdf                                       0007D9CD_x000c_Macintosh HD                   C7656AB7:"/>
          <p:cNvPicPr/>
          <p:nvPr/>
        </p:nvPicPr>
        <p:blipFill>
          <a:blip r:embed="rId3"/>
          <a:srcRect l="0" t="23992" r="3019" b="21582"/>
          <a:stretch/>
        </p:blipFill>
        <p:spPr>
          <a:xfrm>
            <a:off x="1676520" y="33480"/>
            <a:ext cx="5790960" cy="1625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&#10;heart3.gif                                                     00877376_x0005_apple                          BCBA5D29: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654200" y="2116080"/>
            <a:ext cx="223200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208160" y="60480"/>
            <a:ext cx="677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uthwest’s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28600" y="1222200"/>
            <a:ext cx="86868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ar-term major and binding commitment to adopt WheelTugs is unlikely for Southwest, given its other undertakings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ources are very tight, and WheelTug, though exciting with massive profit potential, will drive numerous changes across the organization. Change takes time, which means the process will take a lo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y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f LUV does not reserve slots now, EIS on LUV’s fleet will be pushed back to 2015 or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182600" y="55440"/>
            <a:ext cx="67788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28600" y="860400"/>
            <a:ext cx="87631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1240" indent="-741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ter of Int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rves delivery slot until in pro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lots are first-come, first-served, so LUV would start at Slot 1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cts airline interests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ts LUV in the driver’s s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By July 2012, project &gt;1,000 systems allocated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presenting 2 years of system p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se Agre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o be agreed 6 months before deliv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se based on sav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UV saves from Day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182600" y="55440"/>
            <a:ext cx="67788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posal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28600" y="860400"/>
            <a:ext cx="87631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1240" indent="-74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elTug can test the system on a Southwest 737NG, @ BWI in June. PR benefits would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west would have the best position in the industry to assess WheelTug up close, and get comfortable with the system and technical development te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WheelTug demonstrator is ready to go, and prep is in place,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74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74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 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74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43400" y="4843440"/>
            <a:ext cx="150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_x0018_driving_aerospace2 2.pdf                                       0007D9CD_x000c_Macintosh HD                   C7656AB7:"/>
          <p:cNvPicPr/>
          <p:nvPr/>
        </p:nvPicPr>
        <p:blipFill>
          <a:blip r:embed="rId1"/>
          <a:srcRect l="0" t="23942" r="3062" b="21603"/>
          <a:stretch/>
        </p:blipFill>
        <p:spPr>
          <a:xfrm>
            <a:off x="2209680" y="-17640"/>
            <a:ext cx="4724640" cy="133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el_al_logo2.jpg"/>
          <p:cNvPicPr/>
          <p:nvPr/>
        </p:nvPicPr>
        <p:blipFill>
          <a:blip r:embed="rId2"/>
          <a:stretch/>
        </p:blipFill>
        <p:spPr>
          <a:xfrm>
            <a:off x="152280" y="2316240"/>
            <a:ext cx="3886200" cy="708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4572000" y="1859040"/>
            <a:ext cx="41911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 algn="ctr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unch Customers: A3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0" y="1859040"/>
            <a:ext cx="41911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 algn="ctr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unch Customers: 737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ject 2" descr=""/>
          <p:cNvPicPr/>
          <p:nvPr/>
        </p:nvPicPr>
        <p:blipFill>
          <a:blip r:embed="rId3"/>
          <a:stretch/>
        </p:blipFill>
        <p:spPr>
          <a:xfrm>
            <a:off x="152280" y="3247920"/>
            <a:ext cx="4019760" cy="685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"/>
          <p:cNvPicPr/>
          <p:nvPr/>
        </p:nvPicPr>
        <p:blipFill>
          <a:blip r:embed="rId4"/>
          <a:stretch/>
        </p:blipFill>
        <p:spPr>
          <a:xfrm>
            <a:off x="4952880" y="3076560"/>
            <a:ext cx="3892680" cy="901800"/>
          </a:xfrm>
          <a:prstGeom prst="rect">
            <a:avLst/>
          </a:prstGeom>
          <a:ln w="0">
            <a:noFill/>
          </a:ln>
        </p:spPr>
      </p:pic>
      <p:pic>
        <p:nvPicPr>
          <p:cNvPr id="58" name="il_fi" descr="http://moscow.aero/airlines/pic/israir/logo_israir.gif"/>
          <p:cNvPicPr/>
          <p:nvPr/>
        </p:nvPicPr>
        <p:blipFill>
          <a:blip r:embed="rId5"/>
          <a:stretch/>
        </p:blipFill>
        <p:spPr>
          <a:xfrm>
            <a:off x="4618080" y="2265480"/>
            <a:ext cx="4145040" cy="734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4724280" y="3992400"/>
            <a:ext cx="403884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 algn="ctr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10 A320 Slots Re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&gt;1,000 more 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28600" y="3992400"/>
            <a:ext cx="380988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 algn="ctr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05 737NG Slots Re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&gt;1,000 more 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8" descr="wheeltug_pushback2d.jpg"/>
          <p:cNvPicPr/>
          <p:nvPr/>
        </p:nvPicPr>
        <p:blipFill>
          <a:blip r:embed="rId1"/>
          <a:stretch/>
        </p:blipFill>
        <p:spPr>
          <a:xfrm>
            <a:off x="4700520" y="1125360"/>
            <a:ext cx="2005200" cy="3810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wheeltug_pushback1d.jpg"/>
          <p:cNvPicPr/>
          <p:nvPr/>
        </p:nvPicPr>
        <p:blipFill>
          <a:blip r:embed="rId2"/>
          <a:stretch/>
        </p:blipFill>
        <p:spPr>
          <a:xfrm>
            <a:off x="380880" y="1158840"/>
            <a:ext cx="1987560" cy="3776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0" y="0"/>
            <a:ext cx="90676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1200"/>
                <a:tab algn="l" pos="1023840"/>
                <a:tab algn="l" pos="1535040"/>
                <a:tab algn="l" pos="2048040"/>
                <a:tab algn="l" pos="2560680"/>
                <a:tab algn="l" pos="3073320"/>
                <a:tab algn="l" pos="3584520"/>
                <a:tab algn="l" pos="4095720"/>
                <a:tab algn="l" pos="4608360"/>
                <a:tab algn="l" pos="5119560"/>
                <a:tab algn="l" pos="5632560"/>
                <a:tab algn="l" pos="6143760"/>
                <a:tab algn="l" pos="6657840"/>
                <a:tab algn="l" pos="7169040"/>
                <a:tab algn="l" pos="7677000"/>
                <a:tab algn="l" pos="8190000"/>
                <a:tab algn="l" pos="8701200"/>
                <a:tab algn="l" pos="9213840"/>
                <a:tab algn="l" pos="9725040"/>
                <a:tab algn="l" pos="10237680"/>
                <a:tab algn="l" pos="10734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axiing with and without WheelT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2625840" y="1568520"/>
            <a:ext cx="159840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000" spc="-1" strike="noStrike" baseline="-25000">
                <a:solidFill>
                  <a:srgbClr val="ff0000"/>
                </a:solidFill>
                <a:latin typeface="Futura Lt BT"/>
              </a:rPr>
              <a:t>Engine active from landing to 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2625840" y="2471760"/>
            <a:ext cx="190476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000" spc="-1" strike="noStrike" baseline="-25000">
                <a:solidFill>
                  <a:srgbClr val="ff0000"/>
                </a:solidFill>
                <a:latin typeface="Futura Lt BT"/>
              </a:rPr>
              <a:t>Tug required for pushback from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2619360" y="3305160"/>
            <a:ext cx="159876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000" spc="-1" strike="noStrike" baseline="-25000">
                <a:solidFill>
                  <a:srgbClr val="ff0000"/>
                </a:solidFill>
                <a:latin typeface="Futura Lt BT"/>
              </a:rPr>
              <a:t>Engine active from  terminal to take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4"/>
          <p:cNvSpPr/>
          <p:nvPr/>
        </p:nvSpPr>
        <p:spPr>
          <a:xfrm>
            <a:off x="380880" y="674640"/>
            <a:ext cx="23623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700" spc="-1" strike="noStrike" baseline="-25000">
                <a:solidFill>
                  <a:srgbClr val="000000"/>
                </a:solidFill>
                <a:latin typeface="Futura Lt BT"/>
              </a:rPr>
              <a:t>Without WheelTu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7"/>
          <p:cNvSpPr/>
          <p:nvPr/>
        </p:nvSpPr>
        <p:spPr>
          <a:xfrm>
            <a:off x="6989760" y="3197160"/>
            <a:ext cx="190512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000" spc="-1" strike="noStrike" baseline="-25000">
                <a:solidFill>
                  <a:srgbClr val="339933"/>
                </a:solidFill>
                <a:latin typeface="Futura Lt BT"/>
              </a:rPr>
              <a:t>WheelTug active from  terminal until warm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9"/>
          <p:cNvSpPr/>
          <p:nvPr/>
        </p:nvSpPr>
        <p:spPr>
          <a:xfrm flipH="1" flipV="1">
            <a:off x="1317240" y="2568600"/>
            <a:ext cx="127332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4800600" y="674640"/>
            <a:ext cx="19810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700" spc="-1" strike="noStrike" baseline="-25000">
                <a:solidFill>
                  <a:srgbClr val="000000"/>
                </a:solidFill>
                <a:latin typeface="Futura Lt BT"/>
              </a:rPr>
              <a:t>With WheelTu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6989760" y="1430280"/>
            <a:ext cx="175248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000" spc="-1" strike="noStrike" baseline="-25000">
                <a:solidFill>
                  <a:srgbClr val="339933"/>
                </a:solidFill>
                <a:latin typeface="Futura Lt BT"/>
              </a:rPr>
              <a:t>WheelTug active from landing to 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6989760" y="2401920"/>
            <a:ext cx="207792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000" spc="-1" strike="noStrike" baseline="-25000">
                <a:solidFill>
                  <a:srgbClr val="339933"/>
                </a:solidFill>
                <a:latin typeface="Futura Lt BT"/>
              </a:rPr>
              <a:t>WheelTug to/from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000" spc="-1" strike="noStrike" baseline="-25000">
                <a:solidFill>
                  <a:srgbClr val="339933"/>
                </a:solidFill>
                <a:latin typeface="Futura Lt BT"/>
              </a:rPr>
              <a:t>No tug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8"/>
          <p:cNvSpPr/>
          <p:nvPr/>
        </p:nvSpPr>
        <p:spPr>
          <a:xfrm>
            <a:off x="6989760" y="4375080"/>
            <a:ext cx="207792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000" spc="-1" strike="noStrike" baseline="-25000">
                <a:solidFill>
                  <a:srgbClr val="ff0000"/>
                </a:solidFill>
                <a:latin typeface="Futura Lt BT"/>
              </a:rPr>
              <a:t>Engine active from  warmup to take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17"/>
          <p:cNvSpPr/>
          <p:nvPr/>
        </p:nvSpPr>
        <p:spPr>
          <a:xfrm flipH="1" flipV="1">
            <a:off x="5646240" y="2541600"/>
            <a:ext cx="138276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28"/>
          <p:cNvSpPr/>
          <p:nvPr/>
        </p:nvSpPr>
        <p:spPr>
          <a:xfrm flipH="1" flipV="1">
            <a:off x="5846760" y="1766880"/>
            <a:ext cx="1108080" cy="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31"/>
          <p:cNvSpPr/>
          <p:nvPr/>
        </p:nvSpPr>
        <p:spPr>
          <a:xfrm flipH="1">
            <a:off x="6461280" y="4729320"/>
            <a:ext cx="475920" cy="15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37"/>
          <p:cNvSpPr/>
          <p:nvPr/>
        </p:nvSpPr>
        <p:spPr>
          <a:xfrm flipH="1" flipV="1">
            <a:off x="1525320" y="1809720"/>
            <a:ext cx="98748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7"/>
          <p:cNvSpPr/>
          <p:nvPr/>
        </p:nvSpPr>
        <p:spPr>
          <a:xfrm>
            <a:off x="5119560" y="1600200"/>
            <a:ext cx="609840" cy="9165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2240" rIns="102240" tIns="0" bIns="153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200" spc="-1" strike="noStrike" baseline="-25000">
                <a:solidFill>
                  <a:srgbClr val="339933"/>
                </a:solidFill>
                <a:latin typeface="Futura Lt BT"/>
                <a:ea typeface="Times New Roman"/>
              </a:rPr>
              <a:t>Taxi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9"/>
          <p:cNvSpPr/>
          <p:nvPr/>
        </p:nvSpPr>
        <p:spPr>
          <a:xfrm>
            <a:off x="5132520" y="4168800"/>
            <a:ext cx="609480" cy="9165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2240" rIns="102240" tIns="0" bIns="153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200" spc="-1" strike="noStrike" baseline="-25000">
                <a:solidFill>
                  <a:srgbClr val="339933"/>
                </a:solidFill>
                <a:latin typeface="Futura Lt BT"/>
                <a:ea typeface="Times New Roman"/>
              </a:rPr>
              <a:t>Taxi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0"/>
          <p:cNvSpPr/>
          <p:nvPr/>
        </p:nvSpPr>
        <p:spPr>
          <a:xfrm>
            <a:off x="838080" y="4173480"/>
            <a:ext cx="609840" cy="9165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2240" rIns="102240" tIns="0" bIns="153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200" spc="-1" strike="noStrike" baseline="-25000">
                <a:solidFill>
                  <a:srgbClr val="ff0000"/>
                </a:solidFill>
                <a:latin typeface="Futura Lt BT"/>
                <a:ea typeface="Times New Roman"/>
              </a:rPr>
              <a:t>Taxi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1"/>
          <p:cNvSpPr/>
          <p:nvPr/>
        </p:nvSpPr>
        <p:spPr>
          <a:xfrm>
            <a:off x="838080" y="1582560"/>
            <a:ext cx="609840" cy="9165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2240" rIns="102240" tIns="0" bIns="153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200" spc="-1" strike="noStrike" baseline="-25000">
                <a:solidFill>
                  <a:srgbClr val="ff0000"/>
                </a:solidFill>
                <a:latin typeface="Futura Lt BT"/>
                <a:ea typeface="Times New Roman"/>
              </a:rPr>
              <a:t>Taxi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8"/>
          <p:cNvSpPr/>
          <p:nvPr/>
        </p:nvSpPr>
        <p:spPr>
          <a:xfrm flipH="1" flipV="1">
            <a:off x="1525320" y="3395520"/>
            <a:ext cx="98748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9"/>
          <p:cNvSpPr/>
          <p:nvPr/>
        </p:nvSpPr>
        <p:spPr>
          <a:xfrm flipH="1" flipV="1">
            <a:off x="5864400" y="3467160"/>
            <a:ext cx="1108080" cy="9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WheelTug-Cockpit_Side_View2.jpg"/>
          <p:cNvPicPr/>
          <p:nvPr/>
        </p:nvPicPr>
        <p:blipFill>
          <a:blip r:embed="rId1"/>
          <a:stretch/>
        </p:blipFill>
        <p:spPr>
          <a:xfrm>
            <a:off x="2411280" y="973080"/>
            <a:ext cx="3227400" cy="3889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"/>
          <p:cNvSpPr/>
          <p:nvPr/>
        </p:nvSpPr>
        <p:spPr>
          <a:xfrm>
            <a:off x="1386000" y="74520"/>
            <a:ext cx="61642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7160"/>
                <a:tab algn="l" pos="1863720"/>
                <a:tab algn="l" pos="2327400"/>
                <a:tab algn="l" pos="2795760"/>
                <a:tab algn="l" pos="3260880"/>
                <a:tab algn="l" pos="3726000"/>
                <a:tab algn="l" pos="4192560"/>
                <a:tab algn="l" pos="4657680"/>
                <a:tab algn="l" pos="5124600"/>
                <a:tab algn="l" pos="5589720"/>
                <a:tab algn="l" pos="6054840"/>
                <a:tab algn="l" pos="6519960"/>
                <a:tab algn="l" pos="6985080"/>
                <a:tab algn="l" pos="7451640"/>
                <a:tab algn="l" pos="7916760"/>
                <a:tab algn="l" pos="8383680"/>
                <a:tab algn="l" pos="8848800"/>
                <a:tab algn="l" pos="9315360"/>
                <a:tab algn="l" pos="9767880"/>
                <a:tab algn="l" pos="10233000"/>
                <a:tab algn="l" pos="106981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WheelTug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®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ICEBOX.jpg"/>
          <p:cNvPicPr/>
          <p:nvPr/>
        </p:nvPicPr>
        <p:blipFill>
          <a:blip r:embed="rId2"/>
          <a:stretch/>
        </p:blipFill>
        <p:spPr>
          <a:xfrm>
            <a:off x="5765760" y="3564000"/>
            <a:ext cx="3378240" cy="1295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slide0056"/>
          <p:cNvPicPr/>
          <p:nvPr/>
        </p:nvPicPr>
        <p:blipFill>
          <a:blip r:embed="rId3"/>
          <a:stretch/>
        </p:blipFill>
        <p:spPr>
          <a:xfrm>
            <a:off x="152280" y="973080"/>
            <a:ext cx="1879560" cy="385920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10"/>
          <p:cNvSpPr/>
          <p:nvPr/>
        </p:nvSpPr>
        <p:spPr>
          <a:xfrm>
            <a:off x="4267080" y="3716280"/>
            <a:ext cx="1498680" cy="4953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WheelTug_panel_iso1.jpg"/>
          <p:cNvPicPr/>
          <p:nvPr/>
        </p:nvPicPr>
        <p:blipFill>
          <a:blip r:embed="rId4"/>
          <a:stretch/>
        </p:blipFill>
        <p:spPr>
          <a:xfrm>
            <a:off x="5924520" y="898560"/>
            <a:ext cx="3352680" cy="2592360"/>
          </a:xfrm>
          <a:prstGeom prst="rect">
            <a:avLst/>
          </a:prstGeom>
          <a:ln w="0">
            <a:noFill/>
          </a:ln>
        </p:spPr>
      </p:pic>
      <p:sp>
        <p:nvSpPr>
          <p:cNvPr id="90" name="Straight Connector 7"/>
          <p:cNvSpPr/>
          <p:nvPr/>
        </p:nvSpPr>
        <p:spPr>
          <a:xfrm>
            <a:off x="5257800" y="1887480"/>
            <a:ext cx="914400" cy="228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16"/>
          <p:cNvSpPr/>
          <p:nvPr/>
        </p:nvSpPr>
        <p:spPr>
          <a:xfrm>
            <a:off x="2057400" y="3182760"/>
            <a:ext cx="76212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027"/>
          <p:cNvSpPr/>
          <p:nvPr/>
        </p:nvSpPr>
        <p:spPr>
          <a:xfrm>
            <a:off x="4419720" y="446040"/>
            <a:ext cx="441936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520" bIns="47520" anchor="t">
            <a:spAutoFit/>
          </a:bodyPr>
          <a:p>
            <a:pPr>
              <a:tabLst>
                <a:tab algn="l" pos="0"/>
                <a:tab algn="l" pos="465120"/>
                <a:tab algn="l" pos="932040"/>
                <a:tab algn="l" pos="1397160"/>
                <a:tab algn="l" pos="1863720"/>
                <a:tab algn="l" pos="2327400"/>
                <a:tab algn="l" pos="2795760"/>
                <a:tab algn="l" pos="3260880"/>
                <a:tab algn="l" pos="3726000"/>
                <a:tab algn="l" pos="4192560"/>
                <a:tab algn="l" pos="4657680"/>
                <a:tab algn="l" pos="5124600"/>
                <a:tab algn="l" pos="5589720"/>
                <a:tab algn="l" pos="6054840"/>
                <a:tab algn="l" pos="6519960"/>
                <a:tab algn="l" pos="6985080"/>
                <a:tab algn="l" pos="7451640"/>
                <a:tab algn="l" pos="7916760"/>
                <a:tab algn="l" pos="8383680"/>
                <a:tab algn="l" pos="8848800"/>
                <a:tab algn="l" pos="9315360"/>
                <a:tab algn="l" pos="9767880"/>
                <a:tab algn="l" pos="10233000"/>
                <a:tab algn="l" pos="1069812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Rapid retrofit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- installable in 2 shif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32040"/>
                <a:tab algn="l" pos="1397160"/>
                <a:tab algn="l" pos="1863720"/>
                <a:tab algn="l" pos="2327400"/>
                <a:tab algn="l" pos="2795760"/>
                <a:tab algn="l" pos="3260880"/>
                <a:tab algn="l" pos="3726000"/>
                <a:tab algn="l" pos="4192560"/>
                <a:tab algn="l" pos="4657680"/>
                <a:tab algn="l" pos="5124600"/>
                <a:tab algn="l" pos="5589720"/>
                <a:tab algn="l" pos="6054840"/>
                <a:tab algn="l" pos="6519960"/>
                <a:tab algn="l" pos="6985080"/>
                <a:tab algn="l" pos="7451640"/>
                <a:tab algn="l" pos="7916760"/>
                <a:tab algn="l" pos="8383680"/>
                <a:tab algn="l" pos="8848800"/>
                <a:tab algn="l" pos="9315360"/>
                <a:tab algn="l" pos="9767880"/>
                <a:tab algn="l" pos="10233000"/>
                <a:tab algn="l" pos="10698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32040"/>
                <a:tab algn="l" pos="1397160"/>
                <a:tab algn="l" pos="1863720"/>
                <a:tab algn="l" pos="2327400"/>
                <a:tab algn="l" pos="2795760"/>
                <a:tab algn="l" pos="3260880"/>
                <a:tab algn="l" pos="3726000"/>
                <a:tab algn="l" pos="4192560"/>
                <a:tab algn="l" pos="4657680"/>
                <a:tab algn="l" pos="5124600"/>
                <a:tab algn="l" pos="5589720"/>
                <a:tab algn="l" pos="6054840"/>
                <a:tab algn="l" pos="6519960"/>
                <a:tab algn="l" pos="6985080"/>
                <a:tab algn="l" pos="7451640"/>
                <a:tab algn="l" pos="7916760"/>
                <a:tab algn="l" pos="8383680"/>
                <a:tab algn="l" pos="8848800"/>
                <a:tab algn="l" pos="9315360"/>
                <a:tab algn="l" pos="9767880"/>
                <a:tab algn="l" pos="10233000"/>
                <a:tab algn="l" pos="10698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32040"/>
                <a:tab algn="l" pos="1397160"/>
                <a:tab algn="l" pos="1863720"/>
                <a:tab algn="l" pos="2327400"/>
                <a:tab algn="l" pos="2795760"/>
                <a:tab algn="l" pos="3260880"/>
                <a:tab algn="l" pos="3726000"/>
                <a:tab algn="l" pos="4192560"/>
                <a:tab algn="l" pos="4657680"/>
                <a:tab algn="l" pos="5124600"/>
                <a:tab algn="l" pos="5589720"/>
                <a:tab algn="l" pos="6054840"/>
                <a:tab algn="l" pos="6519960"/>
                <a:tab algn="l" pos="6985080"/>
                <a:tab algn="l" pos="7451640"/>
                <a:tab algn="l" pos="7916760"/>
                <a:tab algn="l" pos="8383680"/>
                <a:tab algn="l" pos="8848800"/>
                <a:tab algn="l" pos="9315360"/>
                <a:tab algn="l" pos="9767880"/>
                <a:tab algn="l" pos="10233000"/>
                <a:tab algn="l" pos="106981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wer from the 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A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32040"/>
                <a:tab algn="l" pos="1397160"/>
                <a:tab algn="l" pos="1863720"/>
                <a:tab algn="l" pos="2327400"/>
                <a:tab algn="l" pos="2795760"/>
                <a:tab algn="l" pos="3260880"/>
                <a:tab algn="l" pos="3726000"/>
                <a:tab algn="l" pos="4192560"/>
                <a:tab algn="l" pos="4657680"/>
                <a:tab algn="l" pos="5124600"/>
                <a:tab algn="l" pos="5589720"/>
                <a:tab algn="l" pos="6054840"/>
                <a:tab algn="l" pos="6519960"/>
                <a:tab algn="l" pos="6985080"/>
                <a:tab algn="l" pos="7451640"/>
                <a:tab algn="l" pos="7916760"/>
                <a:tab algn="l" pos="8383680"/>
                <a:tab algn="l" pos="8848800"/>
                <a:tab algn="l" pos="9315360"/>
                <a:tab algn="l" pos="9767880"/>
                <a:tab algn="l" pos="10233000"/>
                <a:tab algn="l" pos="10698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32040"/>
                <a:tab algn="l" pos="1397160"/>
                <a:tab algn="l" pos="1863720"/>
                <a:tab algn="l" pos="2327400"/>
                <a:tab algn="l" pos="2795760"/>
                <a:tab algn="l" pos="3260880"/>
                <a:tab algn="l" pos="3726000"/>
                <a:tab algn="l" pos="4192560"/>
                <a:tab algn="l" pos="4657680"/>
                <a:tab algn="l" pos="5124600"/>
                <a:tab algn="l" pos="5589720"/>
                <a:tab algn="l" pos="6054840"/>
                <a:tab algn="l" pos="6519960"/>
                <a:tab algn="l" pos="6985080"/>
                <a:tab algn="l" pos="7451640"/>
                <a:tab algn="l" pos="7916760"/>
                <a:tab algn="l" pos="8383680"/>
                <a:tab algn="l" pos="8848800"/>
                <a:tab algn="l" pos="9315360"/>
                <a:tab algn="l" pos="9767880"/>
                <a:tab algn="l" pos="10233000"/>
                <a:tab algn="l" pos="10698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32040"/>
                <a:tab algn="l" pos="1397160"/>
                <a:tab algn="l" pos="1863720"/>
                <a:tab algn="l" pos="2327400"/>
                <a:tab algn="l" pos="2795760"/>
                <a:tab algn="l" pos="3260880"/>
                <a:tab algn="l" pos="3726000"/>
                <a:tab algn="l" pos="4192560"/>
                <a:tab algn="l" pos="4657680"/>
                <a:tab algn="l" pos="5124600"/>
                <a:tab algn="l" pos="5589720"/>
                <a:tab algn="l" pos="6054840"/>
                <a:tab algn="l" pos="6519960"/>
                <a:tab algn="l" pos="6985080"/>
                <a:tab algn="l" pos="7451640"/>
                <a:tab algn="l" pos="7916760"/>
                <a:tab algn="l" pos="8383680"/>
                <a:tab algn="l" pos="8848800"/>
                <a:tab algn="l" pos="9315360"/>
                <a:tab algn="l" pos="9767880"/>
                <a:tab algn="l" pos="10233000"/>
                <a:tab algn="l" pos="106981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o connection to aircraft data bus or 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32040"/>
                <a:tab algn="l" pos="1397160"/>
                <a:tab algn="l" pos="1863720"/>
                <a:tab algn="l" pos="2327400"/>
                <a:tab algn="l" pos="2795760"/>
                <a:tab algn="l" pos="3260880"/>
                <a:tab algn="l" pos="3726000"/>
                <a:tab algn="l" pos="4192560"/>
                <a:tab algn="l" pos="4657680"/>
                <a:tab algn="l" pos="5124600"/>
                <a:tab algn="l" pos="5589720"/>
                <a:tab algn="l" pos="6054840"/>
                <a:tab algn="l" pos="6519960"/>
                <a:tab algn="l" pos="6985080"/>
                <a:tab algn="l" pos="7451640"/>
                <a:tab algn="l" pos="7916760"/>
                <a:tab algn="l" pos="8383680"/>
                <a:tab algn="l" pos="8848800"/>
                <a:tab algn="l" pos="9315360"/>
                <a:tab algn="l" pos="9767880"/>
                <a:tab algn="l" pos="10233000"/>
                <a:tab algn="l" pos="10698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32040"/>
                <a:tab algn="l" pos="1397160"/>
                <a:tab algn="l" pos="1863720"/>
                <a:tab algn="l" pos="2327400"/>
                <a:tab algn="l" pos="2795760"/>
                <a:tab algn="l" pos="3260880"/>
                <a:tab algn="l" pos="3726000"/>
                <a:tab algn="l" pos="4192560"/>
                <a:tab algn="l" pos="4657680"/>
                <a:tab algn="l" pos="5124600"/>
                <a:tab algn="l" pos="5589720"/>
                <a:tab algn="l" pos="6054840"/>
                <a:tab algn="l" pos="6519960"/>
                <a:tab algn="l" pos="6985080"/>
                <a:tab algn="l" pos="7451640"/>
                <a:tab algn="l" pos="7916760"/>
                <a:tab algn="l" pos="8383680"/>
                <a:tab algn="l" pos="8848800"/>
                <a:tab algn="l" pos="9315360"/>
                <a:tab algn="l" pos="9767880"/>
                <a:tab algn="l" pos="10233000"/>
                <a:tab algn="l" pos="10698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32040"/>
                <a:tab algn="l" pos="1397160"/>
                <a:tab algn="l" pos="1863720"/>
                <a:tab algn="l" pos="2327400"/>
                <a:tab algn="l" pos="2795760"/>
                <a:tab algn="l" pos="3260880"/>
                <a:tab algn="l" pos="3726000"/>
                <a:tab algn="l" pos="4192560"/>
                <a:tab algn="l" pos="4657680"/>
                <a:tab algn="l" pos="5124600"/>
                <a:tab algn="l" pos="5589720"/>
                <a:tab algn="l" pos="6054840"/>
                <a:tab algn="l" pos="6519960"/>
                <a:tab algn="l" pos="6985080"/>
                <a:tab algn="l" pos="7451640"/>
                <a:tab algn="l" pos="7916760"/>
                <a:tab algn="l" pos="8383680"/>
                <a:tab algn="l" pos="8848800"/>
                <a:tab algn="l" pos="9315360"/>
                <a:tab algn="l" pos="9767880"/>
                <a:tab algn="l" pos="10233000"/>
                <a:tab algn="l" pos="106981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ster Minimum Equipment List (MMEL) – system does not need to function for aircraft disp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32040"/>
                <a:tab algn="l" pos="1397160"/>
                <a:tab algn="l" pos="1863720"/>
                <a:tab algn="l" pos="2327400"/>
                <a:tab algn="l" pos="2795760"/>
                <a:tab algn="l" pos="3260880"/>
                <a:tab algn="l" pos="3726000"/>
                <a:tab algn="l" pos="4192560"/>
                <a:tab algn="l" pos="4657680"/>
                <a:tab algn="l" pos="5124600"/>
                <a:tab algn="l" pos="5589720"/>
                <a:tab algn="l" pos="6054840"/>
                <a:tab algn="l" pos="6519960"/>
                <a:tab algn="l" pos="6985080"/>
                <a:tab algn="l" pos="7451640"/>
                <a:tab algn="l" pos="7916760"/>
                <a:tab algn="l" pos="8383680"/>
                <a:tab algn="l" pos="8848800"/>
                <a:tab algn="l" pos="9315360"/>
                <a:tab algn="l" pos="9767880"/>
                <a:tab algn="l" pos="10233000"/>
                <a:tab algn="l" pos="10698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32040"/>
                <a:tab algn="l" pos="1397160"/>
                <a:tab algn="l" pos="1863720"/>
                <a:tab algn="l" pos="2327400"/>
                <a:tab algn="l" pos="2795760"/>
                <a:tab algn="l" pos="3260880"/>
                <a:tab algn="l" pos="3726000"/>
                <a:tab algn="l" pos="4192560"/>
                <a:tab algn="l" pos="4657680"/>
                <a:tab algn="l" pos="5124600"/>
                <a:tab algn="l" pos="5589720"/>
                <a:tab algn="l" pos="6054840"/>
                <a:tab algn="l" pos="6519960"/>
                <a:tab algn="l" pos="6985080"/>
                <a:tab algn="l" pos="7451640"/>
                <a:tab algn="l" pos="7916760"/>
                <a:tab algn="l" pos="8383680"/>
                <a:tab algn="l" pos="8848800"/>
                <a:tab algn="l" pos="9315360"/>
                <a:tab algn="l" pos="9767880"/>
                <a:tab algn="l" pos="10233000"/>
                <a:tab algn="l" pos="10698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32040"/>
                <a:tab algn="l" pos="1397160"/>
                <a:tab algn="l" pos="1863720"/>
                <a:tab algn="l" pos="2327400"/>
                <a:tab algn="l" pos="2795760"/>
                <a:tab algn="l" pos="3260880"/>
                <a:tab algn="l" pos="3726000"/>
                <a:tab algn="l" pos="4192560"/>
                <a:tab algn="l" pos="4657680"/>
                <a:tab algn="l" pos="5124600"/>
                <a:tab algn="l" pos="5589720"/>
                <a:tab algn="l" pos="6054840"/>
                <a:tab algn="l" pos="6519960"/>
                <a:tab algn="l" pos="6985080"/>
                <a:tab algn="l" pos="7451640"/>
                <a:tab algn="l" pos="7916760"/>
                <a:tab algn="l" pos="8383680"/>
                <a:tab algn="l" pos="8848800"/>
                <a:tab algn="l" pos="9315360"/>
                <a:tab algn="l" pos="9767880"/>
                <a:tab algn="l" pos="10233000"/>
                <a:tab algn="l" pos="1069812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Fit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to 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existing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heel well 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32040"/>
                <a:tab algn="l" pos="1397160"/>
                <a:tab algn="l" pos="1863720"/>
                <a:tab algn="l" pos="2327400"/>
                <a:tab algn="l" pos="2795760"/>
                <a:tab algn="l" pos="3260880"/>
                <a:tab algn="l" pos="3726000"/>
                <a:tab algn="l" pos="4192560"/>
                <a:tab algn="l" pos="4657680"/>
                <a:tab algn="l" pos="5124600"/>
                <a:tab algn="l" pos="5589720"/>
                <a:tab algn="l" pos="6054840"/>
                <a:tab algn="l" pos="6519960"/>
                <a:tab algn="l" pos="6985080"/>
                <a:tab algn="l" pos="7451640"/>
                <a:tab algn="l" pos="7916760"/>
                <a:tab algn="l" pos="8383680"/>
                <a:tab algn="l" pos="8848800"/>
                <a:tab algn="l" pos="9315360"/>
                <a:tab algn="l" pos="9767880"/>
                <a:tab algn="l" pos="10233000"/>
                <a:tab algn="l" pos="10698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WheelTug_Partners-2012-04 1.jpg"/>
          <p:cNvPicPr/>
          <p:nvPr/>
        </p:nvPicPr>
        <p:blipFill>
          <a:blip r:embed="rId1"/>
          <a:stretch/>
        </p:blipFill>
        <p:spPr>
          <a:xfrm>
            <a:off x="533520" y="363600"/>
            <a:ext cx="36576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208160" y="60480"/>
            <a:ext cx="677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 of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28600" y="1222200"/>
            <a:ext cx="86868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elTug off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early savings of more than $500k per aircraft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$240 million across LUV’s flee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per y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quivalent to 6-7% fuel burn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00% the value of winglets, and 50% of the savings from re-enginin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overnight retrofi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xisting fle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power-by-the-ho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airl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208160" y="60480"/>
            <a:ext cx="677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ckground with Southw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28600" y="1222200"/>
            <a:ext cx="8686800" cy="39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elTug first met with Gary Kelly and Mike Van de Ven in early 2009. LUV Action was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si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chn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li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conclusions were positive: WheelTug savings are large, and could make an enormous impact on the bottom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ical conclusion was that WheelTug was early stage, and Boeing raised doub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208160" y="60480"/>
            <a:ext cx="677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gress since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Rectangle 3" descr=""/>
          <p:cNvPicPr/>
          <p:nvPr/>
        </p:nvPicPr>
        <p:blipFill>
          <a:blip r:embed="rId1"/>
          <a:stretch/>
        </p:blipFill>
        <p:spPr>
          <a:xfrm>
            <a:off x="139680" y="1139760"/>
            <a:ext cx="8785080" cy="3462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M1.jpg"/>
          <p:cNvPicPr/>
          <p:nvPr/>
        </p:nvPicPr>
        <p:blipFill>
          <a:blip r:embed="rId2"/>
          <a:stretch/>
        </p:blipFill>
        <p:spPr>
          <a:xfrm>
            <a:off x="438120" y="2954160"/>
            <a:ext cx="23050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143000" y="63360"/>
            <a:ext cx="67816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lectric Taxi is Com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03040" y="797040"/>
            <a:ext cx="6274080" cy="49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18960" indent="-3189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33440"/>
                <a:tab algn="l" pos="890640"/>
                <a:tab algn="l" pos="1347840"/>
                <a:tab algn="l" pos="1805040"/>
                <a:tab algn="l" pos="2262240"/>
                <a:tab algn="l" pos="2719440"/>
                <a:tab algn="l" pos="3176640"/>
                <a:tab algn="l" pos="3633840"/>
                <a:tab algn="l" pos="4091040"/>
                <a:tab algn="l" pos="4548240"/>
                <a:tab algn="l" pos="5005440"/>
                <a:tab algn="l" pos="5462640"/>
                <a:tab algn="l" pos="5919840"/>
                <a:tab algn="l" pos="6377040"/>
                <a:tab algn="l" pos="68342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the A3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33440"/>
                <a:tab algn="l" pos="890640"/>
                <a:tab algn="l" pos="1347840"/>
                <a:tab algn="l" pos="1805040"/>
                <a:tab algn="l" pos="2262240"/>
                <a:tab algn="l" pos="2719440"/>
                <a:tab algn="l" pos="3176640"/>
                <a:tab algn="l" pos="3633840"/>
                <a:tab algn="l" pos="4091040"/>
                <a:tab algn="l" pos="4548240"/>
                <a:tab algn="l" pos="5005440"/>
                <a:tab algn="l" pos="5462640"/>
                <a:tab algn="l" pos="5919840"/>
                <a:tab algn="l" pos="6377040"/>
                <a:tab algn="l" pos="68342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fran/Honeywell, developing main wheel solution. Have purchased an aircraft for te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33440"/>
                <a:tab algn="l" pos="890640"/>
                <a:tab algn="l" pos="1347840"/>
                <a:tab algn="l" pos="1805040"/>
                <a:tab algn="l" pos="2262240"/>
                <a:tab algn="l" pos="2719440"/>
                <a:tab algn="l" pos="3176640"/>
                <a:tab algn="l" pos="3633840"/>
                <a:tab algn="l" pos="4091040"/>
                <a:tab algn="l" pos="4548240"/>
                <a:tab algn="l" pos="5005440"/>
                <a:tab algn="l" pos="5462640"/>
                <a:tab algn="l" pos="5919840"/>
                <a:tab algn="l" pos="6377040"/>
                <a:tab algn="l" pos="68342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ested airlines inclu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syjet, Delta, U.S. Airways, Air France, American Air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33440"/>
                <a:tab algn="l" pos="890640"/>
                <a:tab algn="l" pos="1347840"/>
                <a:tab algn="l" pos="1805040"/>
                <a:tab algn="l" pos="2262240"/>
                <a:tab algn="l" pos="2719440"/>
                <a:tab algn="l" pos="3176640"/>
                <a:tab algn="l" pos="3633840"/>
                <a:tab algn="l" pos="4091040"/>
                <a:tab algn="l" pos="4548240"/>
                <a:tab algn="l" pos="5005440"/>
                <a:tab algn="l" pos="5462640"/>
                <a:tab algn="l" pos="5919840"/>
                <a:tab algn="l" pos="6377040"/>
                <a:tab algn="l" pos="68342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67720"/>
                <a:tab algn="l" pos="1002348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33440"/>
                <a:tab algn="l" pos="890640"/>
                <a:tab algn="l" pos="1347840"/>
                <a:tab algn="l" pos="1805040"/>
                <a:tab algn="l" pos="2262240"/>
                <a:tab algn="l" pos="2719440"/>
                <a:tab algn="l" pos="3176640"/>
                <a:tab algn="l" pos="3633840"/>
                <a:tab algn="l" pos="4091040"/>
                <a:tab algn="l" pos="4548240"/>
                <a:tab algn="l" pos="5005440"/>
                <a:tab algn="l" pos="5462640"/>
                <a:tab algn="l" pos="5919840"/>
                <a:tab algn="l" pos="6377040"/>
                <a:tab algn="l" pos="68342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67720"/>
                <a:tab algn="l" pos="10023480"/>
                <a:tab algn="l" pos="10479240"/>
                <a:tab algn="l" pos="10934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33440"/>
                <a:tab algn="l" pos="890640"/>
                <a:tab algn="l" pos="1347840"/>
                <a:tab algn="l" pos="1805040"/>
                <a:tab algn="l" pos="2262240"/>
                <a:tab algn="l" pos="2719440"/>
                <a:tab algn="l" pos="3176640"/>
                <a:tab algn="l" pos="3633840"/>
                <a:tab algn="l" pos="4091040"/>
                <a:tab algn="l" pos="4548240"/>
                <a:tab algn="l" pos="5005440"/>
                <a:tab algn="l" pos="5462640"/>
                <a:tab algn="l" pos="5919840"/>
                <a:tab algn="l" pos="6377040"/>
                <a:tab algn="l" pos="68342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-3 Communications and Lufthansa Technik: Dec 2011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emonstra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reen Taxi using main wheel 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33440"/>
                <a:tab algn="l" pos="890640"/>
                <a:tab algn="l" pos="1347840"/>
                <a:tab algn="l" pos="1805040"/>
                <a:tab algn="l" pos="2262240"/>
                <a:tab algn="l" pos="2719440"/>
                <a:tab algn="l" pos="3176640"/>
                <a:tab algn="l" pos="3633840"/>
                <a:tab algn="l" pos="4091040"/>
                <a:tab algn="l" pos="4548240"/>
                <a:tab algn="l" pos="5005440"/>
                <a:tab algn="l" pos="5462640"/>
                <a:tab algn="l" pos="5919840"/>
                <a:tab algn="l" pos="6377040"/>
                <a:tab algn="l" pos="68342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67720"/>
                <a:tab algn="l" pos="1002348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33440"/>
                <a:tab algn="l" pos="890640"/>
                <a:tab algn="l" pos="1347840"/>
                <a:tab algn="l" pos="1805040"/>
                <a:tab algn="l" pos="2262240"/>
                <a:tab algn="l" pos="2719440"/>
                <a:tab algn="l" pos="3176640"/>
                <a:tab algn="l" pos="3633840"/>
                <a:tab algn="l" pos="4091040"/>
                <a:tab algn="l" pos="4548240"/>
                <a:tab algn="l" pos="5005440"/>
                <a:tab algn="l" pos="5462640"/>
                <a:tab algn="l" pos="5919840"/>
                <a:tab algn="l" pos="6377040"/>
                <a:tab algn="l" pos="68342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elTug: Development most advanced. First announced customers, in Israir and Al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33440"/>
                <a:tab algn="l" pos="890640"/>
                <a:tab algn="l" pos="1347840"/>
                <a:tab algn="l" pos="1805040"/>
                <a:tab algn="l" pos="2262240"/>
                <a:tab algn="l" pos="2719440"/>
                <a:tab algn="l" pos="3176640"/>
                <a:tab algn="l" pos="3633840"/>
                <a:tab algn="l" pos="4091040"/>
                <a:tab algn="l" pos="4548240"/>
                <a:tab algn="l" pos="5005440"/>
                <a:tab algn="l" pos="5462640"/>
                <a:tab algn="l" pos="5919840"/>
                <a:tab algn="l" pos="6377040"/>
                <a:tab algn="l" pos="68342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67720"/>
                <a:tab algn="l" pos="1002348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33440"/>
                <a:tab algn="l" pos="890640"/>
                <a:tab algn="l" pos="1347840"/>
                <a:tab algn="l" pos="1805040"/>
                <a:tab algn="l" pos="2262240"/>
                <a:tab algn="l" pos="2719440"/>
                <a:tab algn="l" pos="3176640"/>
                <a:tab algn="l" pos="3633840"/>
                <a:tab algn="l" pos="4091040"/>
                <a:tab algn="l" pos="4548240"/>
                <a:tab algn="l" pos="5005440"/>
                <a:tab algn="l" pos="5462640"/>
                <a:tab algn="l" pos="5919840"/>
                <a:tab algn="l" pos="6377040"/>
                <a:tab algn="l" pos="68342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irbus is supporting all A320 electric taxi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33440"/>
                <a:tab algn="l" pos="890640"/>
                <a:tab algn="l" pos="1347840"/>
                <a:tab algn="l" pos="1805040"/>
                <a:tab algn="l" pos="2262240"/>
                <a:tab algn="l" pos="2719440"/>
                <a:tab algn="l" pos="3176640"/>
                <a:tab algn="l" pos="3633840"/>
                <a:tab algn="l" pos="4091040"/>
                <a:tab algn="l" pos="4548240"/>
                <a:tab algn="l" pos="5005440"/>
                <a:tab algn="l" pos="5462640"/>
                <a:tab algn="l" pos="5919840"/>
                <a:tab algn="l" pos="6377040"/>
                <a:tab algn="l" pos="68342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67720"/>
                <a:tab algn="l" pos="1002348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33440"/>
                <a:tab algn="l" pos="890640"/>
                <a:tab algn="l" pos="1347840"/>
                <a:tab algn="l" pos="1805040"/>
                <a:tab algn="l" pos="2262240"/>
                <a:tab algn="l" pos="2719440"/>
                <a:tab algn="l" pos="3176640"/>
                <a:tab algn="l" pos="3633840"/>
                <a:tab algn="l" pos="4091040"/>
                <a:tab algn="l" pos="4548240"/>
                <a:tab algn="l" pos="5005440"/>
                <a:tab algn="l" pos="5462640"/>
                <a:tab algn="l" pos="5919840"/>
                <a:tab algn="l" pos="6377040"/>
                <a:tab algn="l" pos="68342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67720"/>
                <a:tab algn="l" pos="10023480"/>
                <a:tab algn="l" pos="10479240"/>
                <a:tab algn="l" pos="1093464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33440"/>
                <a:tab algn="l" pos="890640"/>
                <a:tab algn="l" pos="1347840"/>
                <a:tab algn="l" pos="1805040"/>
                <a:tab algn="l" pos="2262240"/>
                <a:tab algn="l" pos="2719440"/>
                <a:tab algn="l" pos="3176640"/>
                <a:tab algn="l" pos="3633840"/>
                <a:tab algn="l" pos="4091040"/>
                <a:tab algn="l" pos="4548240"/>
                <a:tab algn="l" pos="5005440"/>
                <a:tab algn="l" pos="5462640"/>
                <a:tab algn="l" pos="5919840"/>
                <a:tab algn="l" pos="6377040"/>
                <a:tab algn="l" pos="68342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67720"/>
                <a:tab algn="l" pos="10023480"/>
                <a:tab algn="l" pos="10479240"/>
                <a:tab algn="l" pos="1093464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ttp://www.flightglobal.com/assets/getasset.aspx?itemid=44515"/>
          <p:cNvPicPr/>
          <p:nvPr/>
        </p:nvPicPr>
        <p:blipFill>
          <a:blip r:embed="rId1"/>
          <a:stretch/>
        </p:blipFill>
        <p:spPr>
          <a:xfrm>
            <a:off x="6477120" y="896760"/>
            <a:ext cx="2444760" cy="1632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L-3 Taxi.tiff"/>
          <p:cNvPicPr/>
          <p:nvPr/>
        </p:nvPicPr>
        <p:blipFill>
          <a:blip r:embed="rId2"/>
          <a:stretch/>
        </p:blipFill>
        <p:spPr>
          <a:xfrm>
            <a:off x="6335640" y="3335400"/>
            <a:ext cx="28846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01:29:03Z</dcterms:created>
  <dc:creator>WheelTug plc</dc:creator>
  <dc:description/>
  <dc:language>en-US</dc:language>
  <cp:lastModifiedBy> </cp:lastModifiedBy>
  <dcterms:modified xsi:type="dcterms:W3CDTF">2012-05-16T21:07:14Z</dcterms:modified>
  <cp:revision>107</cp:revision>
  <dc:subject/>
  <dc:title>WheelTug</dc:title>
</cp:coreProperties>
</file>