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7080" y="580680"/>
            <a:ext cx="5438880" cy="407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199200" y="8902440"/>
            <a:ext cx="55080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EC06BF-63D1-4BC2-8D97-2935955AD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454800" y="96840"/>
            <a:ext cx="295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9393B3-3D51-4F83-AE5B-1C553F81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FE59BC-16E5-4A33-B346-965AF758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ADE0-1850-4849-877A-A1A06552E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8539-D306-4D8C-868D-57EF85A78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A796-17D1-40C9-9992-EB4270C00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1973-7FDD-4CCB-8A6B-1CB5F1D00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9A40-49F4-4EA9-9566-33B692F5C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4781-B538-40DA-9F95-F91234C64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058D-306C-4919-8D09-B131ACE77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A4CA-8C92-4BE8-BE08-C688973B9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F3C1-9A99-417F-A935-4E20265C8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34F1-FEE2-444C-B56B-37743324D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8BF2-9CEE-4294-99B3-50DD9263B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0232-8EF4-4ADA-AD86-16A551743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772-25C3-4BF2-8F99-88635EF1BB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07480" y="277272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7/17/2012 8:28:22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61000" y="3852000"/>
            <a:ext cx="106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7/17/2012 12:44:12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02080" y="498600"/>
            <a:ext cx="303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7/17/2012 8:28:22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31720" y="655560"/>
            <a:ext cx="2778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7/17/2012 12:44:12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6018480"/>
              <a:ext cx="440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2D64-34D4-43F7-A0DD-E24FA5A10D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oday’s discuss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36680" y="1846440"/>
            <a:ext cx="6272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bjectives, long term roadmap, and ‘ground rul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lements of competitive landscape that we want to cover in th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3B12-88C2-4765-994E-0F62E23225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Objectives and long term roadma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1287360" y="1563840"/>
            <a:ext cx="1995480" cy="838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86" h="576">
                <a:moveTo>
                  <a:pt x="0" y="0"/>
                </a:moveTo>
                <a:lnTo>
                  <a:pt x="882" y="0"/>
                </a:lnTo>
                <a:lnTo>
                  <a:pt x="986" y="288"/>
                </a:lnTo>
                <a:lnTo>
                  <a:pt x="88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2240" y="1614600"/>
            <a:ext cx="16509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ign 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324972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48300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ee on detailed set of 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507204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2116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6862680" y="1563840"/>
            <a:ext cx="1973520" cy="83808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1" h="576">
                <a:moveTo>
                  <a:pt x="0" y="0"/>
                </a:moveTo>
                <a:lnTo>
                  <a:pt x="887" y="0"/>
                </a:lnTo>
                <a:lnTo>
                  <a:pt x="991" y="288"/>
                </a:lnTo>
                <a:lnTo>
                  <a:pt x="887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115040" y="1614600"/>
            <a:ext cx="1543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intly solve how to meet 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59080" y="2906640"/>
            <a:ext cx="167328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on common fact base to use going forwar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all Flight Ops C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to competitors (e.g., wage scales, BH per pilo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5024520" y="2906640"/>
            <a:ext cx="17589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specific financial targets to reach in both short- term and long-term (e.g., Flight Ops CASM of $X by 2015 and $Y by 202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939000" y="2906640"/>
            <a:ext cx="1774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 together to agree on path to meet financial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ntually translate high level concepts into contract language (need to decide when to transfer to Negotiating tea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1400" y="2870280"/>
            <a:ext cx="1092240" cy="4899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303200" y="2851200"/>
            <a:ext cx="1795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the specific competitive challenges we face (e.g., who are our main competitors, what are our sources of competitive advantage and disadvant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7C8B-7AF5-455A-AC87-DB12FA032D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760" y="263160"/>
            <a:ext cx="81061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‘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Ground rules’ for this proces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6"/>
          <p:cNvCxnSpPr>
            <a:stCxn id="128" idx="0"/>
            <a:endCxn id="12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30" name="AutoShape 7"/>
          <p:cNvCxnSpPr>
            <a:stCxn id="128" idx="2"/>
            <a:endCxn id="12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31" name="Rectangle 14"/>
          <p:cNvSpPr/>
          <p:nvPr/>
        </p:nvSpPr>
        <p:spPr>
          <a:xfrm>
            <a:off x="563400" y="1292400"/>
            <a:ext cx="7856640" cy="446652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agree not to share any numbers or ideas from these sessions outside this room until mutually agreed (no publication to Members, Board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et’s keep these discussions small (target of 6 people, plus subject matter experts when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ll requests for additional information should be run though our respecti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will keep working operational issues through the Flight Ops department, so this group can stay focused on our long-term competitive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should plan to put everything on the table—we need to be open with each other if we’re going to make prog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17DB-9CED-4EE6-92FC-A106B8493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61840" y="1004760"/>
            <a:ext cx="331632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86364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eam roles and timing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8"/>
          <p:cNvCxnSpPr>
            <a:stCxn id="138" idx="0"/>
            <a:endCxn id="13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0" name="AutoShape 9"/>
          <p:cNvCxnSpPr>
            <a:stCxn id="138" idx="2"/>
            <a:endCxn id="13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1" name="AutoShape 10"/>
          <p:cNvSpPr/>
          <p:nvPr/>
        </p:nvSpPr>
        <p:spPr>
          <a:xfrm>
            <a:off x="922320" y="1244520"/>
            <a:ext cx="30243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710240" y="1004760"/>
            <a:ext cx="333360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71168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4770360" y="1244520"/>
            <a:ext cx="32529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006560" y="1847880"/>
            <a:ext cx="2843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y B—Facili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WAPA analy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4818240" y="1847880"/>
            <a:ext cx="2842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other week for 1-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ry to schedule these out for the next several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4FA-21A4-420A-BFAA-F3B34AB02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ompetitive landscape for Legacies and LCC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96880" y="1058760"/>
            <a:ext cx="7724880" cy="547956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Legacy and LCC competitors, we want to align on a number of elements in order to clearly define the competitive challenges we f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profitability measures (ROIC, Net margin, Profit per pl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nue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SM/PR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overlap by competito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et strateg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.e., What will competitors fleets look like in 10 years, and how will this impact their revenues and co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trends (e.g., AA bankruptcy, Legacy international expansion pl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/>
  <dc:description/>
  <dc:language>en-US</dc:language>
  <cp:lastModifiedBy> </cp:lastModifiedBy>
  <cp:lastPrinted>2012-07-17T17:44:22Z</cp:lastPrinted>
  <dcterms:modified xsi:type="dcterms:W3CDTF">2012-07-20T12:49:54Z</dcterms:modified>
  <cp:revision>316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LastEditedOfficeVersion">
    <vt:lpwstr>Office2003</vt:lpwstr>
  </property>
  <property fmtid="{D5CDD505-2E9C-101B-9397-08002B2CF9AE}" pid="10" name="McKPaperSize">
    <vt:lpwstr>A4</vt:lpwstr>
  </property>
  <property fmtid="{D5CDD505-2E9C-101B-9397-08002B2CF9AE}" pid="11" name="NotesPageLayout">
    <vt:lpwstr>Message</vt:lpwstr>
  </property>
  <property fmtid="{D5CDD505-2E9C-101B-9397-08002B2CF9AE}" pid="12" name="Office2003EditCount">
    <vt:lpwstr>1</vt:lpwstr>
  </property>
  <property fmtid="{D5CDD505-2E9C-101B-9397-08002B2CF9AE}" pid="13" name="Office2003WasSaved">
    <vt:lpwstr>1</vt:lpwstr>
  </property>
  <property fmtid="{D5CDD505-2E9C-101B-9397-08002B2CF9AE}" pid="14" name="Office2010EditCount">
    <vt:lpwstr>0</vt:lpwstr>
  </property>
  <property fmtid="{D5CDD505-2E9C-101B-9397-08002B2CF9AE}" pid="15" name="Title">
    <vt:lpwstr>Title</vt:lpwstr>
  </property>
  <property fmtid="{D5CDD505-2E9C-101B-9397-08002B2CF9AE}" pid="16" name="Universal Objects">
    <vt:bool>1</vt:bool>
  </property>
</Properties>
</file>