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2440"/>
            <a:ext cx="55080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723515-9FC1-4BD5-8C74-F38136F9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54800" y="96840"/>
            <a:ext cx="295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4F2DB2-0A5B-423D-ADDA-FF835A29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F9D147-F1EE-4796-99A6-1721D760A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4AA1CB-3081-44B8-A7C3-E90738CD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154F8B-329E-4BC6-9C97-8B8A7A63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889690-9E34-4011-89DE-28FBA6C6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435B-2B68-4DCA-ADEC-447C9337B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ECF6-1DF0-41CE-9B59-3B074284E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45DA-BA16-4E0C-8391-B0967EFEC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F00B-3154-4B6C-B9E3-A67274E73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B463-8F74-43DC-B20E-34FBFF7E5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86E0-5B3D-4899-AA57-87548485B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29D7-7AA6-419A-B29A-91991B2FD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60BD-E911-47A4-BCF6-570968583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C823-386A-4834-A6CC-0B4B49DD0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8B64-3AF7-48F3-8C5D-DC39496D7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68B5-FE79-4F16-8DCE-09466722F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71F7-52A0-46F8-8D62-25D60FF7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783B-573B-400F-A289-6A7B1481D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6/2012 5:54:19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403840" y="3852360"/>
            <a:ext cx="975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9/2012 8:00:53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6/2012 5:54:19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95440" y="655560"/>
            <a:ext cx="26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9/2012 8:00:53 A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535B-4299-4FFF-A3A8-BAE1E31262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055-79BB-46E6-972D-0ADBBFAEA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7C7-F020-4FDF-9996-00A40F2E7D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48104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 not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Keep these discussions small (6 people total, plus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un all requests through this group. Let’s not go around each other to SWAPA analysts, FP&amp;A group, or others, unless we explicitly agree to engage th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ED4B-5E09-4763-98FB-DFCEDC681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86364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922320" y="1244520"/>
            <a:ext cx="30243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71168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770360" y="1244520"/>
            <a:ext cx="32529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006560" y="1847880"/>
            <a:ext cx="2843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B—Facili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WAPA analy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818240" y="1847880"/>
            <a:ext cx="2842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BAB-C271-4205-ACC8-090A1E68D0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 </cp:lastModifiedBy>
  <cp:lastPrinted>2012-07-09T13:01:38Z</cp:lastPrinted>
  <dcterms:modified xsi:type="dcterms:W3CDTF">2012-07-17T02:15:04Z</dcterms:modified>
  <cp:revision>31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