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C8E-74EC-4253-B53F-82D23D1A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313-7EA0-4DBC-880A-1CD3533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387-A0D5-4807-8A78-4A8D9CEF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159-B600-4509-90B9-57414DA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E7B-42E3-4A10-BF6F-870AA8C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427-0164-4371-A6B0-5FC21F9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48E-E5AB-4148-97F7-6F655223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235-9AE4-49E1-A9E2-54490EC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0FE-F61F-4711-A896-2DF4A75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DCD-3444-4C11-AF1F-F434145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B75-C27C-4EE8-8D67-F99A92C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30D-855D-4F46-AF70-7BA1F34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9020-BF4D-43BC-A68D-BCD4B027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ADáká¯âätÂB Øã¶ ãUáÃå×áäÂB ãÍãmÎ Øã¶ ØãÇåsB áÄá¯å`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place my name, in this night, among the fortunat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ä×ãäÃã® Øã¶ ØãÊCátåcãB áÑ ãADákáÏâäxÂB á°áÆ ØãcåÑân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TánåÒâ·å³áÆ ØãXáMCás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y soul among the martyrs, let my good deeds be (written) in the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`illiyyí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book of the virtuous), and my evil deeds be for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RåÃáº ãÐãQ âoãwCáRâW CæËå×ã»áÖ ØãÂ áSáÏ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a certainty which gives joy to my hea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ÇãQ ØãËá×ã¢åoâW áÑ ØãäËá® áäÀáäxÂB âSãÎåmâÖ CæÊCáÇåÖ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áYåÇátá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a faith which drives doubt away from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pleased with what You have granted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átác ãTáoãgÛB Øã¶ áäÑ æUáËátác Cá×åÊâäkÂB Øã¶ CáËãW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ive us good in this world, and good in the Hereaf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¼åÖãoádåÂB ãnCáäËÂB áPBámá® CáËã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us from the punishment of the burning fire.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2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å×áÂãB áUáRå²áäoÂB áÑ á½áoå¿âw áÑ á½áoå¿ãl CáÏå×ã¶ ØãËåºâpån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(And I beseech You to) grant me in it (Night of Qadr) Your remembrance, and Your gratitude, and desire for (pleasing)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âÐáÂ áYå»áä¶áÑ CáÇãÂ á¼å×ã¶åÒáäXÂB áÑ áUáQCáÊ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urning (to You for repentance), and succ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all that You have granted Mu&lt;ammad and his fami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ÅáÚáätÂB âÈãÏå×áÃá® áÑ ãÐå×áÃá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peace be on him and o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å×áäÂB Øã¶ ãnCáÏáäËÂB áaãÂåÒâÆ áÑ ãnCáÏáäËÂB Øã¶ ãÄå×áäÂB áaãÂåÒ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causes the night to pass into the day, and the day to pass into the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ØádåÂB áÌãÆ ãYãä×áÇåÂB á^ãoåhâÆ áÑ ãYãä×áÇåÂB áÌãÆ ãäØádåÂB á^ãoåhâÆ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(One) who brings forth the living from the dead, and brings forth the dead from the liv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PCátãc ãoå×á³ãQ âAEáxáÖ åÌáÆ á¹ãpBán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Provider of sustenance for whoever He pleases, without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Èå×ãcán CáÖ âÐäÃÂáB CáÖ âÌÇåcán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Beneficent, O Alláh, O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ÔËåtâdåÂB âAEáÇåsÛB áÀáÂ âÐäÃÂáB CáÖ âÐäÃÂ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Alláh, O Alláh, You have the most beautiful nam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AÝÛB áÑ âAEáÖãoåRã¿åÂB áÑ Cá×åÃâ¯åÂB âÁCá\åÆÛ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highest examples, the grandeur, the boun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21</a:t>
            </a:r>
            <a:r>
              <a:rPr b="1" lang="en-GB" sz="3000" spc="-1" strike="noStrike" baseline="30000">
                <a:solidFill>
                  <a:srgbClr val="000099"/>
                </a:solidFill>
                <a:latin typeface="Al-Arial"/>
                <a:ea typeface="MS Mincho"/>
              </a:rPr>
              <a:t>st</a:t>
            </a: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 Night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beseech You to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7:32:44Z</dcterms:modified>
  <cp:revision>53</cp:revision>
  <dc:subject/>
  <dc:title>Du`a for 21st Night of Ramadan</dc:title>
</cp:coreProperties>
</file>