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DA0-A72B-4D0A-9429-598979DF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848-F5E1-4AB8-A652-4A7CF508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3E8-27A0-45A2-B4BF-9516C4AF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684-01A9-446C-9923-64FD9F37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6D3-152F-43C9-B466-4E283925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280-0A95-4F7D-AF2E-BC1F8494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F37-185B-4C5B-AAAE-5E929537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E73-42FB-4679-92C1-809DC4D3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2EF-FDE4-4355-9D38-7BBABFC9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AA6-E46E-44B0-9994-9E8AEC7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C80-AAD3-49DC-A051-409EA9E0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B88-9C1F-42BD-BFB9-49764A64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69A1-CB6F-4996-A4F8-D5C27A37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äËãÆ ãÐãQ âÈáÃå®áB áYåÊáB CáÆ ÔÂãB âÐåËãÆ ØãÏÂãB CáÖ âVåoã{ åkáº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know better than me what status I have reached in this mont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ã¼åÃáhåÂB áÌãÆ ãÍãjáká¯ãÂ Ô|åc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You alone can calculate it, from all of cre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Qáäoá»âÇåÂB áÀâXá¿ãMÞáÆ ãÐãQ áÀáÃáNás CáÇãQ áÀâÃáNåsáC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ÉåÒâdãÂCáä|ÂB á½âjCáRã® áÑ áÉåÒâÃásåoâÇåÂB áÀâMEá×ãRåÊ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I ask You by what, the angels close to You, Your sent Prophets, and Your virtuous servants, have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áØãäÃá|âW åÉ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at You 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XáÇåcáoãQ áUáäËá`åÂB ØãËáÃãgåkâW áÑ ãnCáäËÂB áÌãÆ ØãXáRáºán áäÀâ·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save me from the fire, and make me enter Heaven, by Your mer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ÀãÆáoá¿ áÑ á½ãÒå·á¯ãQ áäØáÃá® áÄáä£á·áXáW åÉá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avour me by Your forgiveness and gra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MEá®âj áSå×ã`áXåtáW áÑ ØãQâäoá»áW áÄáäRá»áX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ccept my seeking nearness to You, and answer my pr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µåÒáhåÂB áÅåÒáÖ ãÌåÆáÛCãQ áäØáÃá® áäÌâÇáW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security on the day of fe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UáÆCá×ã»åÂB ãÅåÒá×ãÂ âÐáWåjákå®áB èÁåÒáÎ ãäÄâ¿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rom every horror You have prepared for the Day of Jud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Öãoá¿åÂB áÀãÏå_áÒãQ âlåÒâ®áB áÑ ØãÏÂã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y God, I seek refuge with Your gracious self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Èå×ã«á¯åÂB áÀãÂáÚá`ãQ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mighty pow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ãÂCá×áÂ áÑ áÉCá£áÆán âoåÏáw âÅCáäÖáB áØã£á»åËáäÖ åÉ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rom (such a state) that the days and nights of Rama_án reach comple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ãQ ØãÊâmãgBáKâW çSåÊál åÑáB çUá¯ãRáW ØãÃáRãº áÀ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re still remains a sin on me, that You will account me f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Â CáÎåoã·å³áW åÈáÂ ØãäËãÆ CáÏáä|áXå»áW åÉáB âkåÖãoâW çUáNå×ã§ág åÑ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r a mistake that You have not forgiven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Õãkãä×ás Õãkãä×ás Õãkãä×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My Master, my Master, my Mas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ÊáB áäÙãB áÐÂãB áÙ CáÖ áÀâÃáNås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 ask You, there is no god but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YåÊáB áäÙãB áÐÂãB áÙ ålã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for surely there is no god but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æ¢ãn ØãäËá® åjájåpCá¶ ãoåÏáäxÂB BámÎ Øã¶ ØãäËá® áYå×ã¢án áYåËâ¿ åÉã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if You are pleased with me in this month, then increase that pl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äËá® á¡ånCá¶ áÉÝB áÌãÇá¶ ØãäËá® áYå×ã¢án åÌâ¿áW åÈáÂ åÉãB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if You are not pleased with me then from now, be pleased with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ÇãcBáäoÂB áÈácån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Most Merciful of al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ÁáqåËâÇåÂB áÀãQCáXã¿ Øã¶ áYåÃâº áÀáäÊãB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You have said in Your revealed boo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káÇá{ CáÖ âkácáB CáÖ âÐäÃÂáB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O One, O Needl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káÂåÒâÖ åÈáÂ áÑ åkãÃáÖ åÈáÂ åÌá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He who does not give birth and was not bor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çkácáB BæÒâ·â¿ âÐáäÂ åÌâ¿áäÖ åÈ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re is none equal to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jâÑBákãÂ ãkåÖãkádåÂB áÌãä×áÃ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softener of iron for Dawúd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PåÒâäÖáB åÌá® ãÅCá«ã¯åÂB ãPáoâ¿åÂB áÑ ãäoâä£ÂB á¸ãwCá¿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mover of harm and distress from Ayy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PåÒâ»å¯áÖ ãäÈáÎ á^ãäoá·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liever of the grief of Ya`q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¸âsåÒâÖ ãäÈá² áuãä·áË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omforter of the sorrow of Yúsuf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åÈãÏå×áÃá® áØãäÃá|âW åÉáB âÐâÃåÎáB áYåÊáB CáÇá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way it befits You to bless them 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YåÊáB CáÆ ØãQ åÄá¯å¶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al with me in a manner which befit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ÉDåoâ»åÂB ãÐå×ã¶ áÁãqåÊâB ÕãmáäÂB áÉCá£áÆán âoåÏá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month of Rama_án, in which the Qur’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was s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CáÊáB CáÆ åØãQ åÄá¯å·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t in a manner which befit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jâÑBákãÂ ãkåÖãkádåÂB áÌãä×áÃ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softener of iron for Dawúd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PåÒâäÖáB åÌá® ãÅCá«ã¯åÂB ãPáoâ¿åÂB áÑ ãäoâä£ÂB á¸ãwCá¿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mover of harm and distress from Ayy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PåÒâ»å¯áÖ ãäÈáÎ á^ãäoá·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liever of the grief of Ya`q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¸âsåÒâÖ ãäÈá² áuãä·áË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omforter of the sorrow of Yúsuf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åÈãÏå×áÃá® áØãäÃá|âW åÉáB âÐâÃåÎáB áYåÊáB CáÇá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way it befits You to bless them 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YåÊáB CáÆ ØãQ åÄá¯å¶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al with me in a manner which befit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CáÊáB CáÆ åØãQ åÄá¯å·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t in a manner which befit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jâÑBákãÂ ãkåÖãkádåÂB áÌãä×áÃâÆ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softener of iron for Dawúd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Cáºåoâ·åÂB áÑ ÓkâÏåÂB áÌãäÆ èVCáËãä×áQ áÑ ãrCáäËÃãäÂ Óækâ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 guidance for humankind, </a:t>
            </a:r>
            <a:r>
              <a:rPr b="1" i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clear signs of guidance and distinction</a:t>
            </a: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 (2:18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Ðå×áÃá® áPåÒâäÖáB åÌá® ãÅCá«ã¯åÂB ãPáoâ¿åÂB áÑ ãäoâä£ÂB á¸ãwCá¿ Cá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mover of harm and distress from Ayy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PåÒâ»å¯áÖ ãäÈáÎ á^ãäoá·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reliever of the grief of Ya`qúb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ÅáÚáätÂB ãÐå×áÃá® á¸âsåÒâÖ ãäÈá² áuãä·áËâÆ åÕ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the comforter of the sorrow of Yúsuf, peace be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Bless Mu&lt;ammad and the family of Mu&lt;amma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áÌå×ã¯áÇå_áB åÈãÏå×áÃá® áØãäÃá|âW åÉáB âÐâÃåÎáB áYåÊáB CáÇá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the way it befits You to bless them a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áYåÊáB CáÆ ØãQ åÄá¯å¶B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deal with me in a manner which befits You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âÐâÃåÎáB CáÊáB CáÆ åØãQ åÄá¯å·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not in a manner which befits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&lt;ammad and the family of Mu&lt;am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ÉDåoâ»åÂB áÌãÆ ãÐå×ã¶ áYåÂáqåÊáB CáÇãQ áÉCá£áÆán ãoåÏáw áUáÆåoâc áYåÇáä«á¯á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So You have magnified the sanctity, of the month of Rama_án, by revealing the Qur’án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oåÏáw ã¸åÂáB åÌãäÆ Bæoå×ág CáÏáXåÃá¯á_ áÑ ãnåká»åÂB ãUáÃå×áÃãQ âÐáXå|á|ág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You have made it special, by placing the night of Qadr in it, making it better than a thousand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Yá£á»åÊB ãkáº áÉCá£áÆán ãoåÏáw âÅCáäÖáB ãÍãmÎ áÑ áäÈâÏäÃÂá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and now, the days of Rama_án are nearing comple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Al-Arial"/>
                <a:ea typeface="MS Mincho"/>
              </a:rPr>
              <a:t>Du`á for Last 10 Nights of Rama_án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åYáÆáäoá|áW åkáº ãÐå×ãÂCá×áÂ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-Arial"/>
                <a:ea typeface="MS Mincho"/>
              </a:rPr>
              <a:t>and the nights are leaving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pared by Tablígh Sub-Committee of ISIJ of Toronto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kil Karim</cp:lastModifiedBy>
  <dcterms:modified xsi:type="dcterms:W3CDTF">2000-12-17T16:57:06Z</dcterms:modified>
  <cp:revision>53</cp:revision>
  <dc:subject/>
  <dc:title>Du`a for Last 10 Nights of Ramadan</dc:title>
</cp:coreProperties>
</file>