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4584-3E82-4411-B18E-40FBF059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BC8B-4738-4C06-8408-1E483B38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180-6C74-40D3-8328-1BC29365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1A12-33F1-449A-B5A9-EA540B29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74AF-B6E0-4CE3-8994-2F88342A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C946-E84E-4B33-A1EC-37BB90E5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3EA1-EEAF-4DE4-8E3E-C7A0DE33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2482-C33A-4FB7-891F-104F814E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FFA9-CC35-435F-91F8-E772EDBB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80C-7A67-4DA7-A357-F80B27BB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60A1-808F-4AA4-8C78-1A3A25A8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CA1C-2C09-427B-B336-D87D78FD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A3C5-B039-4967-890E-01DC9F2EB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EáÇáätÂB Øã¶ ãnåÒâäËÂB áÉãpCág áÑ ãADáÒáÏåÂB Øã¶ ãÄå×áäÂB áÉãpCág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keeps safe the night in the atmosphere, and keeps safe the light in the sk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ÊålãCãQ áäÙãB ã¡ånÛB ÔÃá® á°á»áW åÉáB ãAEáÇáätÂB á°ãÊCá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revents the sky to fall on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except by His permiss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ÙåÑâqáW åÉáB CáÇâÏátãQCác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holds them back lest they move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ÈãMDáj CáÖ ânåÒâ·á² CáÖ âÈå×ã«á® CáÖ âÈå×ãÃá®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­Knowing, O Might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Forgiver, O Eterna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nåÒâRâ»åÂB Øã¶ åÌáÆ â]ã®CáQ CáÖ âZãnBáÑ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Inherito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will raise those in the gr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áh, O Allá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8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8T16:29:57Z</dcterms:modified>
  <cp:revision>74</cp:revision>
  <dc:subject/>
  <dc:title>Du`a for 28th Night of Ramadan</dc:title>
</cp:coreProperties>
</file>