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2E3-8A13-4E13-A7A9-F9ECC2EE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F37-627B-435C-8096-656C760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F05-E716-4B4D-8A81-1BCAD144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C45-053C-4754-95BF-210A46BF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FD1-E170-4EF9-96B6-69371F33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F64-B418-4ECF-A656-9E64E84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803-FA2A-4D19-9FE8-6C5D33C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666-F3A3-491D-988D-9937C6D3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747-E080-44EC-B896-88C1594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EF4-88F4-4229-BBB0-4370BA2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AB8-A5BD-47A5-B32A-A52DB49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2CD-5E0B-422E-9328-79BF0E8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A894-B7DE-42BD-87B2-004086515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wCá¯áÆ ãnCáÏáäËÂB áÑ CæsCáRãÂ ãÄå×áäÂB áÄã®Cá_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made, the night a cover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day for seeking liveliho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BæjCáWåÑáB ãÁCáRã`åÂB áÑ BæjCáÏãÆ ã¡åná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earth a resting pl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untains as pe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×ãÇás CáÖ âÐäÃÂáB CáÖ ânCáäRá_ CáÖ âÐäÃÂáB CáÖ âoãÎC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Subduer, O Alláh, O the Most Powerful, O Alláh, O All­Hear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Så×ã`âÆ CáÖ âÐäÃÂáB CáÖ âSåÖãoá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One who is) N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(the One) who Answe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5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2:43Z</dcterms:modified>
  <cp:revision>64</cp:revision>
  <dc:subject/>
  <dc:title>Du`a for 25th Night of Ramadan</dc:title>
</cp:coreProperties>
</file>