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C24A-F477-47E4-9FA4-FF9BDC4F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6E7D-4B65-47FC-BCE4-6E465847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F22D-DD40-4A33-8E9F-A3FD5303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8FD3-0F25-4B0D-AE6C-DE37F515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E4AA-17CF-45FC-93E5-F7FD3AC5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83E9-42AC-417B-8716-EC0D1337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DDF7-4C28-4649-8A4A-A8D4536A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0E08-4558-4450-BACF-8923DA82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00EE-7A43-4A8D-BAD7-0F634C10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B92D-854E-4BD4-98E0-D8A3200C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F6E5-8150-4010-A4C6-AE010B20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A9C7-53B1-473F-B328-D4F39176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3245-C932-40E8-A323-E51F2C9EF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äÃã® Øã¶ ØãÊCátåcãB áÑ ãADákáÏâäxÂB á°áÆ ØãcåÑâ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nåÒâ·å³áÆ ØãXáMCás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y soul among the martyrs, let my good deeds be (written) in the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`illiyyí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book of the virtuous), and my evil deeds be for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RåÃáº ãÐãQ âoãwCáRâW CæËå×ã»áÖ ØãÂ áSáÏ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a certainty which gives joy to my hear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ØãËá×ã¢åoâW áÑ ØãäËá® áäÀáäxÂB âSãÎåmâÖ CæÊCáÇåÖ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áYåÇát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faith which drives doubt away from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pleased with what You have granted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átác ãTáoãgÛB Øã¶ áäÑ æUáËátác Cá×åÊâäkÂB Øã¶ CáËã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us good in this world, and good in the Hereaf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¼åÖãoádåÂB ãnCáäËÂB áPBámá® CáËã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us from the punishment of the burning fire.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UáRå²áäoÂB áÑ á½áoå¿âw áÑ á½áoå¿ãl CáÏ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in it (Night of Qadr) Your remembrance, and Your gratitude, and desire for (pleasing)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âÐáÂ áYå»áä¶áÑ CáÇãÂ á¼å×ã¶åÒáäXÂB áÑ áUáQCáÊ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urning (to You for repentance), and succ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all that You have granted Mu&lt;ammad and his fami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áÚáätÂB âÈãÏå×áÃá® áÑ ãÐå×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on him and o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Äå×áäÂB ÔÃá® ãnCáÏáäËÂB ánãäÒá¿âÆ áÑ ãnCáÏáäËÂB ÔÃá® ãÄå×áäÂB ánãäÒá¿â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coils the night into the da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coils the day into the n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VBájCáätÂB ákãä×ás áÑ ãPCáQånáÛB áäPán CáÖ âÈå×ã¿ác CáÖ âÈå×ãÃá®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­Knowing, O Wis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Lord of lords, and the Chief of chief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kåÖãnáÒåÂB ãÄåRác åÌãÆ áäØáÂãB áPáoåºáB CáÖ áYåÊáB áäÙãB áÐÂãB á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re is no god but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is nearer to me than my jugular ve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ËåtâdåÂB âAEáÇåsÛB áÀáÂ âÐäÃÂáB CáÖ âÐäÃÂáB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Alláh, O Allá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the most beautiful nam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ÝÛB áÑ âAEáÖãoåRã¿åÂB áÑ Cá×åÃâ¯åÂB âÁCá\åÆ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highest examples, the grandeur, the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beseech You to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9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ká¯âätÂB Øã¶ ãUáÃå×áäÂB ãÍãmÎ Øã¶ ØãÇåsB áÄá¯å`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my name, in this night, among the fortun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8T16:32:52Z</dcterms:modified>
  <cp:revision>76</cp:revision>
  <dc:subject/>
  <dc:title>Du`a for 29th Night of Ramadan</dc:title>
</cp:coreProperties>
</file>