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4241B-E270-43C0-8546-C224458E4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391212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398F9-D90E-4245-AFE0-BE99801DA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52388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39121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39121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469CD-4B8E-4A58-B606-B149AD5CE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840" y="152388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152388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39121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840" y="39121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39121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C5FFB-CBB5-4E9A-9B85-AAA99FA64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577A2-A2BC-4071-ADAA-D3B39C5DA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867FD-9CEE-414A-8CD4-3DC3C3AAF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52388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12ACA-2CB0-427A-BE16-B97AADB1C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291F7-69D2-4F60-87BA-7D89A4E44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22824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DB856-4F3E-491D-9631-76B28E825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52388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39121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6E6E0-10CF-444A-81EF-8665F2CEA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52388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39121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33B4D-4D01-44F9-9923-DF375B912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52388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391212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3E041-7181-42FD-BC29-E58BA26C0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l-Arial"/>
              </a:rPr>
              <a:t>Click to edit the title text format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99"/>
                </a:solidFill>
                <a:latin typeface="Al-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l-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6EC1F-B0A9-44D2-8AD1-3EB7DD70F8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6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th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ãÈå×ãcáäoÂB ãÌÇåcáäoÂB ãÐäÃÂB ãÈåtãQ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In the name of Alláh the Beneficent, the Mercifu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6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th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ãADáká¯âätÂB Øã¶ ãUáÃå×áäÂB ãÍãmÎ Øã¶ ØãÇåsB áÄá¯å`áW åÉáB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and place my name, in this night, among the fortunate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6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th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áÌå×ãä×ãäÃã® Øã¶ ØãÊCátåcãB áÑ ãADákáÏâäxÂB á°áÆ ØãcåÑân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æTánåÒâ·å³áÆ ØãXáMCásãB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and my soul among the martyrs, let my good deeds be (written) in the </a:t>
            </a:r>
            <a:r>
              <a:rPr b="1" i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`illiyyín</a:t>
            </a: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 (book of the virtuous), and my evil deeds be forgiv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6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th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ØãRåÃáº ãÐãQ âoãwCáRâW CæËå×ã»áÖ ØãÂ áSáÏáW åÉáB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(And I beseech You to) grant me a certainty which gives joy to my heart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6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th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CáÇãQ ØãËá×ã¢åoâW áÑ ØãäËá® áäÀáäxÂB âSãÎåmâÖ CæÊCáÇåÖãB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ØãÂ áYåÇátáº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and a faith which drives doubt away from me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and make me pleased with what You have granted 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6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th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æUáËátác ãTáoãgÛB Øã¶ áäÑ æUáËátác Cá×åÊâäkÂB Øã¶ CáËãWB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(And I beseech You to) </a:t>
            </a:r>
            <a:r>
              <a:rPr b="1" i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Give us good in this world, and good in the Hereafter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6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th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ã¼åÖãoádåÂB ãnCáäËÂB áPBámá® CáËãº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and save us from the punishment of the burning fire.</a:t>
            </a: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 (2:20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6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th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áÀå×áÂãB áUáRå²áäoÂB áÑ á½áoå¿âw áÑ á½áoå¿ãl CáÏå×ã¶ ØãËåºâpånB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(And I beseech You to) grant me in it (Night of Qadr) Your remembrance, and Your gratitude, and desire for (pleasing) You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6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th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èkáäÇádâÆ ãÁB áäÑ èkáäÇádâÆ âÐáÂ áYå»áä¶áÑ CáÇãÂ á¼å×ã¶åÒáäXÂB áÑ áUáQCáÊÛB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turning (to You for repentance), and success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for all that You have granted Mu&lt;ammad and his family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6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th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âÅáÚáätÂB âÈãÏå×áÃá® áÑ ãÐå×áÃá®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peace be on him and on th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6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th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èkáäÇádâÆ ãÁB áäÑ èkáäÇádâÆ ÔÃá® ãäÄá{ áäÈâÏäÃÂá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O Alláh bless Mu&lt;ammad and the family of Mu&lt;amma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6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th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èkáäÇádâÆ ãÁB áäÑ èkáäÇádâÆ ÔÃá® ãäÄá{ áäÈâÏäÃÂá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O Alláh bless Mu&lt;ammad and the family of Mu&lt;amma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6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th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ãÌå×áXáÖB ãnCáÏáäËÂB áÑ áÄå×áäÂB áÄã®Cá_ CáÖ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O (One) who made the night and the day two sig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6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th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æTáoã|åRâÆ ãnCáÏáäËÂB áUáÖB áÄá¯á_ áÑ ãÄå×áäÂB áUáÖB CádáÆ åÌáÆ CáÖ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O (One) who removed the sign of the night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and made the sign of the day bright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6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th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æÚå×ã|å·áW èOå×áw ãäÄâ¾ áÄãä|á·âÆ CáÖ CæÊBáÒå¢ãn áÑ âÐåËãÆ æÚå£á¶ BåÒâ³áXåRáXãÂ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that you may seek grace from Him, and (His) pleasu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O (One) who separates everything distinct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6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th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âjBáÒá_ CáÖ âÐäÃÂáB CáÖ âPCáäÎáÑ CáÖ âkã_CáÆ CáÖ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O the Magnificent, O the Giver, O Alláh, O the Generou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6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th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ÔËåtâdåÂB âAEáÇåsÛB áÀáÂ âÐäÃÂáB CáÖ âÐäÃÂáB CáÖ âÐäÃÂáB CáÖ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O Alláh, O Alláh, O Alláh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You have the most beautiful names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6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th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âAÝÛB áÑ âAEáÖãoåRã¿åÂB áÑ Cá×åÃâ¯åÂB âÁCá\åÆÛB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the highest examples, the grandeur, the bount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6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th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èkáäÇádâÆ ãÁB áäÑ èkáäÇádâÆ ÔÃá® áØãäÃá|âW åÉáB áÀâÃáNåsá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I beseech You to bless Mu&lt;ammad and the family of Mu&lt;ammad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10T17:49:06Z</dcterms:created>
  <dc:creator>Akil Karim</dc:creator>
  <dc:description/>
  <dc:language>en-US</dc:language>
  <cp:lastModifiedBy>Akil Karim</cp:lastModifiedBy>
  <dcterms:modified xsi:type="dcterms:W3CDTF">2000-12-18T16:13:37Z</dcterms:modified>
  <cp:revision>67</cp:revision>
  <dc:subject/>
  <dc:title>Du`a for 26th Night of Ramadan</dc:title>
</cp:coreProperties>
</file>