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7A2-E210-4E67-9C55-7E1559FD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F5B-0604-4DF4-ACFA-09527406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10C-DBBC-4E07-9E6C-4889C171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777-A2FC-4EBA-B65B-2236794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321-3DA8-4069-9122-99C7446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B82-23A6-4BC7-B15C-9E2DD44C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0FB-D44E-4738-B683-63B1CC35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01C-3072-4B93-8203-BBFE26C1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2B3-3EE6-4F1F-9249-4C08CD5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970-7BEB-4919-AD58-6018428A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CC8-A377-4D91-AF91-F27F6AF8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889-D2A7-4936-8B9B-A48E1E36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6759-305E-4DBA-9B0B-337AE82A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áÂ áÀåÖãoáw áÙ ãÐäÃãÂ âkåÇádå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ll Praise is for Alláh, there is no partner for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ÂáÚá_ ãäqã® áÑ ãÐãÏå_áÑ ãÅáoá¿ãÂ Øã³áRåËáÖ CáÇá¾ ãÐäÃãÂ âkåÇádå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ÒâÎ CáÇá¾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ll Praise is for Alláh, as is deserved by His glorious countenance, and His mighty power, and as He is worthy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råkâ»åÂB ánåÒâÊ CáÖ ânåÒâÊ CáÖ âråÑâäkâº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oly, O Light, O Holy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ÇåcáäoÂB áÄã®Cá¶ CáÖ âÌÇåcán CáÖ ãeå×ãRåtáäXÂB ÔÏáXåËâÆ CáÖ âbåÒâäRâ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Glorious, O the ultimate goal of all glorification, O Beneficent, O the Doer of mer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¸å×ã§áÂ CáÖ âÐäÃÂáB CáÖ âoå×ãRá¾ CáÖ âÈå×ãÃá®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­Knowing, O Great, O Alláh, O Gra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oå×ã|áQ CáÖ â°å×ãÇás CáÖ âÐäÃÂáB CáÖ âÄå×ãÃ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agnificent, O Alláh, O All­Hearing, O All­Se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30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43:41Z</dcterms:modified>
  <cp:revision>80</cp:revision>
  <dc:subject/>
  <dc:title>Du`a for 30th Night of Ramadan</dc:title>
</cp:coreProperties>
</file>