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32E-8051-4FE5-9B5D-E9CC7E35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CFF-C8BA-4BAA-9852-E4305B03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393-93F6-4DDF-BDB8-921FDD11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6DE-4560-4378-963F-896EE402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52D-83D2-4453-AAFA-86107EE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EC6-6568-40D3-AC1C-1C37207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3E1-7F63-4F8A-8A71-C3082667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927-459F-402C-A9E3-DB9DC13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C62-0145-4363-9AF4-E74A4F6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9DF-4E81-4917-8D4F-C871D9C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231-CC89-4C89-A9AF-7C6409AF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EC3-83D4-4402-A7D3-959666D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55D-0ADA-4C39-A3B0-AC4A0B7CF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Ëã¾Cás âÐáXåÃá¯á`áÂ áYåNãw åÒáÂ áÑ ãäÄãä«ÂB áäjE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extended the shadow and had You wished You would have made it sta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âÐáXå£áRáº áäÈâ[ æÚå×ãÂáj ãÐå×áÃá® áuåÇáäxÂB áYåÃá¯á_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oå×ãtáäÖ Cæ£åR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made the sun its guide, then You withdrew it to Yourself, an easy withdraw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ÝÛB áÑ ãAEáÖãoåRã¿åÂB áÑ ãÁåÒáä§ÂB áÑ ãjåÒâ`åÂB Bál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possessor of generosity and pow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deur and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cáäoÂB âÌÇåcáäoÂB ãTájCáÏáäxÂB áÑ ãSå×á³åÂB âÈãÂCá® áYåÊáB áäÙB áÐÂãB 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 Knower of the unseen and the manifes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ãÇå×áÏâÆ CáÖ âÌãÆåKâÆ CáÖ âÅáÚás CáÖ âråÑâäkâº CáÖ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 O Holy, O Pe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Trusted, O the Protect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¼ãÂCág CáÖ âÐäÃÂáB CáÖ âoãäRá¿áXâÆ CáÖ ânCáäRá_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nãäÒá|âÆ CáÖ âLãnCáQ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ighty, O Most Powerful, O Subl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Creator, O Originator, O the Fashio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7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22:15Z</dcterms:modified>
  <cp:revision>71</cp:revision>
  <dc:subject/>
  <dc:title>Du`a for 27th Night of Ramadan</dc:title>
</cp:coreProperties>
</file>