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D58-977B-4899-88B7-8867111E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567-D387-4D77-9BC5-5360DD4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DF4-C35A-4228-9F91-F4AC62D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923-7AE1-4BBA-A96F-B2948257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EA5-17AB-4624-A53B-79E1D70A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677-E5DE-468B-B944-F2801C1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97C-9526-4B7B-887B-FFC299E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E13-F769-4B66-919E-1A1C77C9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3AF-BB56-4500-B68C-8B0D81E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DF8-C9D0-41D2-A2CA-8C0DFA1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B61-CB33-43DB-B661-4E70720B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8CB-CCFC-4EDD-894D-5B49A00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F9E-8E27-4E28-8A28-62F302F82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Ãã®Cá_ áÑ ãnåká»åÂB ãUáÃå×áÂ áäP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Night of Qadr (night of power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ho has made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nCádãRåÂB áÑ ãÁCáRã`åÂB áÑ ãnCáÏáäËÂB áÑ ãÄå×áäÂB áäPá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Lord of the night and the d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the mountains and the se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EáÇáätÂB áÑ ã¡ånÛB áÑ ãnBáÒåÊÛB áÑ ãÈáÃâä«Â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f darkness and light, and the earth and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CáäËáÆ CáÖ âÉCáäËác CáÖ ânãäÒá|âÆ CáÖ âLãnCáQ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Originator, the Design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Affectionate, the Gra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°åÖãkáQ CáÖ âÐäÃÂáB CáÖ âÅåÒâä×áº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the Beneficent, O Alláh, O the Everlasting, O Alláh, O the Mak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3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r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5:26Z</dcterms:modified>
  <cp:revision>59</cp:revision>
  <dc:subject/>
  <dc:title>Du`a for 23rd Night of Ramadan</dc:title>
</cp:coreProperties>
</file>