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A00-6CF8-4D7D-88CC-3FB53383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764F-A769-466F-A8EA-7CE82742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98B-2222-4B3E-936D-78FB6E81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EE5-CA81-4F8D-97FC-08F2F876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429-290C-4531-8C0C-043D133C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50B1-E1F0-4F0B-9B79-E9AB8982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E36-B75C-471E-8EE2-B91E1C7E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2B0-579B-40E1-90F7-5B612A95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E8C5-E5A7-4878-B3F6-AF3FD5C2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E7F-4871-4451-A12A-485F5DCD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E75-DF71-4BA6-8C4A-404154AF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89F-3721-4691-A094-32112903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D8F9-B368-4CF7-BCC4-7041AAC4B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ÉåÒâÇãÃå«âÆ âÌådáÊ BálãCá¶ ãÄå×áäÂB áÌãÆ ãnCáÏáäËÂB áiãÂCás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draws forth the day from the night, and lo! we are in dark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½ãoåÖãkå»áXãQ CáÎãäoá»áXåtâÇãÂ ãuåÇáäxÂB áÕãoå`â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Èå×ãÃá® CáÖ âqåÖãqá®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causes the sun to travel its appointed place, through Your decree, O the Mighty, the All­Know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Öãká»åÂB ãÉåÒâ_åoâ¯åÂCá¿ ájCá® ÔäXc áÁãpCáËáÆ ãoáÇá»åÂB ánáäká»â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who decreed stages for the moon, till it returns bent like a palm t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UáRå²án ãäÄâ¿ ÔÏáXåËâÆ áÑ ènåÒâÊ ãäÄâ¿ ánåÒâÊ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Light of all lights, and the ultimate goal of all desir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ÌÇåcán CáÖ âÐäÃÂáB CáÖ èUáÇå¯ãÊ ãäÄâ¿ áäØãÂáÑ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Guardian of all blessing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Benefic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jåoá¶ CáÖ âkãcBáÑ CáÖ âkácáB CáÖ âråÑâäkâº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Holy, O One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the) Unique, O (the) Singl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2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nd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 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7T17:32:56Z</dcterms:modified>
  <cp:revision>57</cp:revision>
  <dc:subject/>
  <dc:title>Du`a for 22nd Night of Ramadan</dc:title>
</cp:coreProperties>
</file>