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211A-F26C-405F-8D73-6C306A868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D924-F4B7-477B-9330-0BAFF176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0CE2-71ED-40CD-82E4-F5828692B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16FF-B604-47A0-8190-3EF56B021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BEF6-0D62-4D14-8374-335EBF2F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BB7E-6542-40C5-837F-BF181386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289D-7B77-4BC8-AF13-A19828B2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F904-434C-4E49-9627-29E7E480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3B15-DC5B-471E-9400-5938FA7A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864E-4EF1-4773-9E50-A079FB3E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C4CC-01B7-4BB1-ADFE-05FC5C50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8DE4-2499-49B3-9B37-0D90EA50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99"/>
                </a:solidFill>
                <a:latin typeface="Al-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2460-1E75-4664-84CA-23B8B05C7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4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4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áØãäÃá|âW åÉáB áÀâÃáNås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 beseech You to bless Mu&lt;ammad and the family of Mu&lt;amma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4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ADáká¯âätÂB Øã¶ ãUáÃå×áäÂB ãÍãmÎ Øã¶ ØãÇåsB áÄá¯å`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place my name, in this night, among the fortunat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4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ä×ãäÃã® Øã¶ ØãÊCátåcãB áÑ ãADákáÏâäxÂB á°áÆ ØãcåÑân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TánåÒâ·å³áÆ ØãXáMCás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y soul among the martyrs, let my good deeds be (written) in the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`illiyyín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book of the virtuous), and my evil deeds be forgiv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4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RåÃáº ãÐãQ âoãwCáRâW CæËå×ã»áÖ ØãÂ áSáÏ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grant me a certainty which gives joy to my hear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4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ÇãQ ØãËá×ã¢åoâW áÑ ØãäËá® áäÀáäxÂB âSãÎåmâÖ CæÊCáÇåÖ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Â áYåÇátá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a faith which drives doubt away from 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ake me pleased with what You have granted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4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UáËátác ãTáoãgÛB Øã¶ áäÑ æUáËátác Cá×åÊâäkÂB Øã¶ CáËãW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Give us good in this world, and good in the Hereaft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4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¼åÖãoádåÂB ãnCáäËÂB áPBámá® CáËãº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save us from the punishment of the burning fire.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2:2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4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å×áÂãB áUáRå²áäoÂB áÑ á½áoå¿âw áÑ á½áoå¿ãl CáÏå×ã¶ ØãËåºâpån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grant me in it (Night of Qadr) Your remembrance, and Your gratitude, and desire for (pleasing) Yo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4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âÐáÂ áYå»áä¶áÑ CáÇãÂ á¼å×ã¶åÒáäXÂB áÑ áUáQCáÊ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urning (to You for repentance), and succes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for all that You have granted Mu&lt;ammad and his famil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4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ÅáÚáätÂB âÈãÏå×áÃá® áÑ ãÐå×áÃá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on him and on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4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4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4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uåÇáäxÂB áÑ CæËá¿ás ãÄå×áäÂB áÄã®Cá_ áÑ ãbCáRå{áÛB á¼ãÂCá¶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æÊCáRåtâc áoáÇá»åÂ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the Cleaver of the dawn, who made the night for rest, and the sun and moon for calculation (of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4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ÁåÒáä§ÂB áÑ ãäÌáÇåÂB Bál CáÖ âÈå×ãÃá® CáÖ âqåÖãqá®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Mighty, O All­Knowing, the Possessor of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blessings and migh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4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ÁáÞá`åÂB áÑ ãÅCá¯åÊãÛB áÑ ãÄå£á·åÂB áÑ ãÁåÒádåÂB áÑ ãTáäÒâ»åÂ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ÅBáoå¿ã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strength and power, grace and favours, and majesty and nobi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4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oåWãÑ CáÖ âjåoá¶ CáÖ âÐäÃÂáB CáÖ âÌÇåcán CáÖ âÐäÃÂ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the Beneficent, O Alláh, O the Single, O the Uniqu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4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äØác CáÖ âÌã¦CáQ CáÖ âoãÎCáª CáÖ âÐäÃÂ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the Manifest, O the Hidden, O the Ever­Liv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4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ÔËåtâdåÂB âAEáÇåsÛB áÀáÂ áYåÊáB áäÙãB áÐÂãB á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re is no god but Yo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You have the most beautiful nam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4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th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AÝÛB áÑ âAEáÖãoåRã¿åÂB áÑ Cá×åÃâ¯åÂB âÁCá\åÆ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highest examples, the grandeur, the boun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Akil Karim</dc:creator>
  <dc:description/>
  <dc:language>en-US</dc:language>
  <cp:lastModifiedBy>Akil Karim</cp:lastModifiedBy>
  <dcterms:modified xsi:type="dcterms:W3CDTF">2000-12-17T17:50:08Z</dcterms:modified>
  <cp:revision>62</cp:revision>
  <dc:subject/>
  <dc:title>Du`a for 24th Night of Ramadan</dc:title>
</cp:coreProperties>
</file>